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2C1C717-BF86-472B-B0CD-EC8546B64F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4589BF-4A25-4BAF-8A11-3CB3333AA9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1397F72-2A5E-4244-B9B4-CB0157115F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92D9EAB-AA35-4590-B18C-659C62CF4A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1E3836-A510-4304-9038-8FC4FFB671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EF7120-ED50-4B2C-9C08-578403DEB2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C0D9E6-F42A-489D-9FD0-144001F6D9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EDE092-C444-4E47-91ED-910698BC11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108DE9-3E9B-4A6C-A025-7AC6B31728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4F7566-D23A-4DBA-9DAC-E081551918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39128-DEDE-45F9-809B-C4A8C62B6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C49568-1597-434A-8692-7A5FA6B7D7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5E073E-6EDE-4D8F-81AF-9A050D144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657A02-2317-4239-8F53-9A4D68E49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2C24CC-9CC8-43FD-98A7-6036FA16AB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080360-2DBA-4B3A-A006-BB3B8F961C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C9B452-34CB-4FA1-9111-1676C12A5F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914C9A-3384-4462-8BBC-334DB06F9E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36F11E-7A69-4461-92D4-A250D99F66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C5D3FB-C72D-45B4-AE60-DD434B215E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5E4BB2-35BE-4BA6-B9A3-AF2FE1690F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AE947D-7FA0-4FF7-9517-58563174DC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16D6D0-5D8C-46F0-B3CD-56E3B7F488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818B09-3DBA-4AC5-A0E4-0328A535E31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0708E-7C61-4E10-ABC4-83F6E12884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A5C57-0530-4308-961C-BAEA6B5BF6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amazon.com/exec/obidos/redirect?tag=thecompleteshake&amp;creative=374725&amp;camp=211173&amp;link_code=ur1&amp;path=subst/home/home.html"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a:t>
            </a:r>
            <a:r>
              <a:rPr b="0" lang="en-US" sz="5000" spc="-1" strike="noStrike">
                <a:solidFill>
                  <a:srgbClr val="ffffff"/>
                </a:solidFill>
                <a:latin typeface="Arial"/>
              </a:rPr>
              <a:t>A Modest Proposal”</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y: Jonathan Swift</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pose</a:t>
            </a: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Modest Proposal,” Swift satirizes the English landlords with outrageous humor, proposing that Irish infants be sold as food at age one, when they are plump and healthy, to give the Irish a new source of income and the English a new food product to bolster their economy and eliminate a social problem.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pose</a:t>
            </a: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says his proposal, if adopted, would also result in a reduction in the number of Catholics in Ireland</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most Irish infants—almost all of whom were baptized Catholic—would end up in stews and other dishes instead of growing up to go to Catholic churches. </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 he is satirizing the prejudice of Protestants toward Catholics.  </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pose</a:t>
            </a: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wift also satirizes the Irish themselves in his essay, for too many of them had accepted abuse stoically rather than taking action on their own behalf.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plete Title</a:t>
            </a: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plete title of "A Modest Proposal" i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Modest Proposal for preventing the children of poor people in Ireland, from being a burden on their parents or country, and for making them beneficial to the publick."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Modest Proposal" is an essay that uses satire to make its point. </a:t>
            </a:r>
            <a:endParaRPr b="0" lang="en-US" sz="40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atire is a literary work that attacks or pokes fun at vices, abuses, stupidity, and/or any other fault or imperfec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tire</a:t>
            </a: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ire may make the reader laugh at, or feel disgust for, the person or thing satirized. </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ishly or sardonically, it criticizes someone or something, using wit and clever wording—and sometimes makes outrageous assertions or claims.</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in purpose of a satire is to spur readers to remedy the problem under discussio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tire and Verbal Irony</a:t>
            </a: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in weapon of the satirist is verbal irony, </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igure of speech in which words are used to ridicule a person or thing by conveying a meaning that is the opposite of what the words sa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istorical Background</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the centuries, England gradually gained a foothold in Ireland.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541, the parliament in Dublin recognized England’s Henry VIII, a Protestant, as King of Ireland.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pite of repeated uprisings by Irish Catholics, English Protestants acquired more and more estates in Ireland.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1703, they owned all but ten percent of the lan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istorical Background</a:t>
            </a:r>
            <a:endParaRPr b="0" lang="en-US" sz="4400" spc="-1" strike="noStrike">
              <a:solidFill>
                <a:srgbClr val="000000"/>
              </a:solidFill>
              <a:latin typeface="Arial"/>
            </a:endParaRPr>
          </a:p>
        </p:txBody>
      </p:sp>
      <p:sp>
        <p:nvSpPr>
          <p:cNvPr id="119"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nwhile, legislation was enacted that severely limited the rights of the Irish to hold government office, purchase real estate, get an education, and advance themselves in other ways. </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result, many Irish fled to foreign lands, including America.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ose who remained in Ireland lived in poverty, facing disease, starvation, and prejudice. It was this Ireland—an Ireland of the tyrannized and the downtrodden—that Jonathan Swift attempted to focus attention on in “A Modest Proposal” in 1720.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pose</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nathan Swift wrote “A Modest Proposal” to call attention to abuses inflicted on Irish Catholics by well-to-do English Protestants. </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ft himself was a Protestant, but he was also a native of Ireland, having been born in Dublin of English parents. </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believed England was exploiting and oppressing Irelan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pose</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Irishmen worked farms owned by Englishmen who charged high rents—so high that the Irish were frequently unable to pay them. </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quently, many Irish farming families </a:t>
            </a:r>
            <a:r>
              <a:rPr b="0" lang="en-US" sz="2800" spc="-1" strike="noStrike" u="sng">
                <a:solidFill>
                  <a:srgbClr val="666699"/>
                </a:solidFill>
                <a:uFillTx/>
                <a:latin typeface="Arial"/>
                <a:hlinkClick r:id="rId1"/>
              </a:rPr>
              <a:t> </a:t>
            </a:r>
            <a:r>
              <a:rPr b="0" lang="en-US" sz="2800" spc="-1" strike="noStrike" u="sng">
                <a:solidFill>
                  <a:srgbClr val="000000"/>
                </a:solidFill>
                <a:uFillTx/>
                <a:latin typeface="Arial"/>
              </a:rPr>
              <a:t>continually lived on the edge of starvation. </a:t>
            </a:r>
            <a:br>
              <a:rPr sz="2800"/>
            </a:br>
            <a:r>
              <a:rPr b="0" lang="en-US" sz="2800" spc="-1" strike="noStrike" u="sng">
                <a:solidFill>
                  <a:srgbClr val="000000"/>
                </a:solidFill>
                <a:uFillTx/>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4T15:18:38Z</dcterms:created>
  <dc:creator>Leah Vanderwarker</dc:creator>
  <dc:description/>
  <dc:language>en-US</dc:language>
  <cp:lastModifiedBy>Leah Vanderwarker</cp:lastModifiedBy>
  <dcterms:modified xsi:type="dcterms:W3CDTF">2012-03-14T15:38:50Z</dcterms:modified>
  <cp:revision>3</cp:revision>
  <dc:subject/>
  <dc:title>“A Modest Proposal”</dc:title>
</cp:coreProperties>
</file>