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C3AD-D354-4781-B9BD-E5EF7B29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8AA-DECF-4E38-8896-E01DD661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0BD-D785-4423-85B7-EB6C6026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411C-A761-455F-966E-FB8A3DCB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744C-CE88-4F2F-BC7A-7981A561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CCD1-AEB1-4D07-B889-B0E8B52E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B3BE-A2D3-4B1C-9571-3F4A0E8D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820A-2468-4372-B178-BA014586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B005-C86B-4F17-AF46-C0F274C1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CF78-FF60-4177-AADA-E66897C7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55E2-FCFF-4847-8C88-5A676364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768-0C86-46E5-A992-B5F7BAB8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4DA5-3F81-422F-BBFB-59958D31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0AD0-B4EB-4355-B5A0-458D4C79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B77D-6AA0-47D3-99AE-ADD18254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8FD4-E215-4491-8F62-63F93041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F400-73E4-44F9-B9F7-F944BE19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EBD-7A32-45C2-A716-320A9073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BA28-EAF5-4324-9246-7730058F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1660-7F9B-4467-A817-94D60E46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AF62-FB42-4255-A05C-1C60FCF3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1D5-ACCD-44BA-A3FB-D9D7ED3B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ECE-7673-459E-9A41-C82F20E1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B74-FE89-4242-BF8A-93EC3C30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8433-4B8A-4264-AC69-42B7A2435D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8ABF-DB2D-436E-B2A2-DED2722D01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lla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allad Definition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narrative poem (a poem that tells a story) that was originally composed to be sung or recite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Understanding Dialogue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allad usually is conversational, with two characters speaking in a pattern.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you know who the speakers are and that you recognize the patter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ummarize the Plo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allad tells a story, so don't get so caught up in the language that you're missing the plot.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ppreciate the Form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ballads were inspired by true events, and many ballads end in death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aths could be accidental, murder, suicide, or it could be the dead returning to life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, the focus is on the climax of the story, usually the death, so there are often gaps in the plot and characters are lacking motivatio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, notice the legacies  doled out by the dying: this is the character showing their dedication to their family as they will out their possessions before dy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Note the Symbolism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bols for death, love, and valor are often repeated. Feeding someone eels is a repeated symbol of poisoning someone. A narrow bed is symbolic of death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8:29:24Z</dcterms:created>
  <dc:creator>Leah Vanderwarker</dc:creator>
  <dc:description/>
  <dc:language>en-US</dc:language>
  <cp:lastModifiedBy>Leah Vanderwarker</cp:lastModifiedBy>
  <dcterms:modified xsi:type="dcterms:W3CDTF">2011-12-05T18:33:24Z</dcterms:modified>
  <cp:revision>1</cp:revision>
  <dc:subject/>
  <dc:title>Ballads</dc:title>
</cp:coreProperties>
</file>