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9AD-10AF-4121-A37E-FC6EABBA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1DA-AF78-47A6-B0E5-8B166054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69F-0228-4996-ACD9-5945F268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A993-4A58-4276-BFD7-7929013B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5D38-D533-4C59-BD84-2593D2FF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4ED8-78E8-4692-9AC2-CE64963D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BC32-47B8-4428-92D8-2F21FC35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3C72-B96B-437F-9289-1F087510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6D46-230A-448F-B622-598614D5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C970-4860-4A5D-9808-E3CBBC54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5172-B98F-4935-897C-514C4F21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568-8D20-42D7-8509-8790CA39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41D4-0A29-450D-88BD-2BC347CE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1FAE-470E-49F0-8191-9E12E033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D2DF-558A-4968-8A65-5F9BDD64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3780-B99B-4BCA-9C74-6EF29D8E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1CA0-3128-46DE-A05F-44BD96AB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1CC-79C5-45E3-83C1-38F6F66B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583-06ED-4DA7-8EDE-309A4A64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27C-C134-45C2-89BF-2E65D7C1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627-4543-4580-B840-53A34BC9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C7A4-B140-40DB-8068-8BCBD43A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2D1-4D5A-417F-B2AC-77A0002F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55B9-C030-44CE-AE54-91BD4A06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9BAF-8000-4E5D-B13D-6CF378DDA3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14C2-01EC-4278-B8E0-B89CF58D47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lla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llad Definitio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narrative poem (a poem that tells a story) that was originally composed to be sung or recit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Understanding Dialogue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allad usually is conversational, with two characters speaking in a pattern.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you know who the speakers are and that you recognize the patter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ummarize the Plo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allad tells a story, so don't get so caught up in the language that you're missing the plot. 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ppreciate the Form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ballads were inspired by true events, and many ballads end in death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aths could be accidental, murder, suicide, or it could be the dead returning to life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, the focus is on the climax of the story, usually the death, so there are often gaps in the plot and characters are lacking motivat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, notice the legacies  doled out by the dying: this is the character showing their dedication to their family as they will out their possessions before dy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ote the Symbolism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bols for death, love, and valor are often repeated. Feeding someone eels is a repeated symbol of poisoning someone. A narrow bed is symbolic of death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8:29:24Z</dcterms:created>
  <dc:creator>Leah Vanderwarker</dc:creator>
  <dc:description/>
  <dc:language>en-US</dc:language>
  <cp:lastModifiedBy>Leah Vanderwarker</cp:lastModifiedBy>
  <dcterms:modified xsi:type="dcterms:W3CDTF">2011-12-05T18:33:24Z</dcterms:modified>
  <cp:revision>1</cp:revision>
  <dc:subject/>
  <dc:title>Ballads</dc:title>
</cp:coreProperties>
</file>