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7C8-1DC4-4D13-8385-727FD2A3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709-7739-4B13-9100-B6581806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952-2297-4926-86A5-2B074606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976-9047-42DD-AADD-27F7FE5D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A9E-B262-45A7-860D-E0862631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B533-384A-45EA-B5EE-CF491AD2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E92-C4DC-428B-B7B5-7FDA1317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DAB-0956-4AD7-9EF9-E975D604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8E3-87CE-4C06-8C43-63C4CF2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F96C-A75A-47E4-9439-8F7D7162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0C9A-C9B3-4E80-B873-7B6399BF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EE95-A51D-493A-97E3-834CF2F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B41A-24C0-4EEE-90A4-1B4DF195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e into My Par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ess this House,” by Christianna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of a spider and a fly, the spider spins the web as a trap for a fly to accidentally fly into and be ultimately destroyed.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order for this to work, concealed human evil must be revealed by the end of the sto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ot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Characters are drawn i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14619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hey realize that they have misjudg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27400" y="1523880"/>
            <a:ext cx="4141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hey are destroyed for their error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38280" y="2254320"/>
            <a:ext cx="40388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ctim in this formula is na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der identifies with this naivety of the victim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en the victim is trapped the reader feels trapped as well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der should realize exactly how the victim gets duped, and realize that the same could have happened to them self if they had been in the same situation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Come into My Parlor formula, it is understood that the victim is partially at faul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281952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ctim's own vice is the reason that they fall into the tra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so: Expecting kindness where it is not deserv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vice leads to a downfall by a criminal who's inner evil is revealed after it's too late for the victim to escap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it seems too good to be true, it probably i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3818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ral of the story: if it's seems too good to be true, it probably is.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Bless this House," by Christiana Br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Picture"/>
          <p:cNvPicPr/>
          <p:nvPr/>
        </p:nvPicPr>
        <p:blipFill>
          <a:blip r:embed="rId1"/>
          <a:stretch/>
        </p:blipFill>
        <p:spPr>
          <a:xfrm>
            <a:off x="2286000" y="2514600"/>
            <a:ext cx="386712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d on: "Nurse Matilda" books by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ristianna Br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728720"/>
            <a:ext cx="7772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 of "Bless this House," it is a little ambiguous as to who is laying the tra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first, Joe and pregnant Marilyn don't seem at all virtuou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rs. Vaughan seems to be the virtuous neighbor by taking the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it is her stubbornness that is the vice that ultimately leads to her demi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743200" y="2662200"/>
            <a:ext cx="333072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e believes them to be the second coming of Christ: Jesus, Mary, and Joseph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matter what the priests and her friends tell her, she is blind to anything other than this fantasy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blind, that she does not realize that they are pushing her out of her own home or that they have done the same with Mrs. Mac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understood that Mrs. Vaughan herself makes the trap work for Joe and Marilyn.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know that this is a Come Into My Parlor formula, so let's look at how Marilyn and Joe spin a trap for Mrs. Vaughan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find the Vic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Vaughan's irrational beliefs.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lay along with Mrs. Vaughan's opin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ilyn calls Joe a carpenter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respectful and happy to have just the shed in the back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low her to fawn over the baby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e even warns Mrs. Vaughan to hide her money after the landlord propositions to help Joe steal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exploit the Vice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Vaughan is already acting suspiciously crazy; but instead of adding to the rumors and the gossip, they defend her and make themselves appear to have her best interest in min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azier Mrs. Vaughan appears, the more reliable and good natured the couple appears to the neighborhood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llow the neighbors and friends to come up with their desired conclusion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she is crazy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they should not be living with her because it isn't safe for the baby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ighbors decide that she should be taken into a hom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 where this adage applies, and you've found a plot for a Come Into My Parlor stor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17220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y seal the trap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community believes that they are doing the right thing by bringing her to an institution, Mrs. Vaughan is trapped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cker, she willingly goes to what she thinks is a visit with Mrs. Mace, the old landla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as no idea that she is trapped until Joe tells her in the car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st scene with the conversation between Joe and Marilyn reveals that Mrs. Vaughan is now buried by Mrs. Mace in a field of wild flowers, and now they have the place to themselve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90720" y="507960"/>
            <a:ext cx="71625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624816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80769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263600"/>
            <a:ext cx="4876560" cy="4684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29240" y="1676520"/>
            <a:ext cx="36147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t rich quick schemes, shoddy investment plans, free downloads, and anything where your gut tells you that there must be a catch somewher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is formula, the victim unknowingly lured into a trap set by the criminal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19360" y="2057400"/>
            <a:ext cx="4572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20:39:48Z</dcterms:created>
  <dc:creator>Leah Vanderwarker</dc:creator>
  <dc:description/>
  <dc:language>en-US</dc:language>
  <cp:lastModifiedBy>Leah Vanderwarker</cp:lastModifiedBy>
  <dcterms:modified xsi:type="dcterms:W3CDTF">2012-11-13T15:44:00Z</dcterms:modified>
  <cp:revision>13</cp:revision>
  <dc:subject/>
  <dc:title>Come into My Parlor</dc:title>
</cp:coreProperties>
</file>