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57A9-0C8B-4033-AF26-3C874118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C35-0347-42D0-B44B-BC638859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7AD-4E2C-4546-8976-5AF9D8C5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F43-D2BD-4EDA-9FE8-BB44251C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C5E-ADE7-44F6-9155-29807AAD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B7D-E9FA-414D-A5A8-BC35510F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D2B-C638-4854-A81F-607BE86E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17C-2D46-4216-8DA6-11032F54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DA0-E8B9-4E1A-8CED-DE3EFDCA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A4D-F0C2-4BFA-85CB-E4215A1B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146-9134-42A9-A0B5-959B6D61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710-9830-45E3-B8D9-D63786E8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B83F-6887-469D-BA85-C4A5EF5AD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e into My Par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ss this House,” by Christianna 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of a spider and a fly, the spider spins the web as a trap for a fly to accidentally fly into and be ultimately destroyed.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order for this to work, concealed human evil must be revealed by the end of the stor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ot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Characters are drawn in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14619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They realize that they have misjudg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27400" y="1523880"/>
            <a:ext cx="4141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They are destroyed for their error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8280" y="2254320"/>
            <a:ext cx="40388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ictim in this formula is na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der identifies with this naivety of the victi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en the victim is trapped the reader feels trapped as well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der should realize exactly how the victim gets duped, and realize that the same could have happened to them self if they had been in the same situation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Come into My Parlor formula, it is understood that the victim is partially at faul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28195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ctim's own vice is the reason that they fall into the tra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97164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so: Expecting kindness where it is not deser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vice leads to a downfall by a criminal who's inner evil is revealed after it's too late for the victim to escape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it seems too good to be true, it probably 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8188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ral of the story: if it's seems too good to be true, it probably is.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Bless this House," by Christiana Br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Picture"/>
          <p:cNvPicPr/>
          <p:nvPr/>
        </p:nvPicPr>
        <p:blipFill>
          <a:blip r:embed="rId1"/>
          <a:stretch/>
        </p:blipFill>
        <p:spPr>
          <a:xfrm>
            <a:off x="2286000" y="2514600"/>
            <a:ext cx="386712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d on: "Nurse Matilda" books by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ristianna Br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728720"/>
            <a:ext cx="77724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beginning of "Bless this House," it is a little ambiguous as to who is laying the tra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first, Joe and pregnant Marilyn don't seem at all virtuo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rs. Vaughan seems to be the virtuous neighbor by taking them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 it is her stubbornness that is the vice that ultimately leads to her demi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43200" y="2662200"/>
            <a:ext cx="33307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believes them to be the second coming of Christ: Jesus, Mary, and Joseph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matter what the priests and her friends tell her, she is blind to anything other than this fantasy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blind, that she does not realize that they are pushing her out of her own home or that they have done the same with Mrs. Mace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nderstood that Mrs. Vaughan herself makes the trap work for Joe and Marilyn.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know that this is a Come Into My Parlor formula, so let's look at how Marilyn and Joe spin a trap for Mrs. Vaughan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y find the Vice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Vaughan's irrational beliefs.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lay along with Mrs. Vaughan's opin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lyn calls Joe a carpenter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respectful and happy to have just the shed in the back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low her to fawn over the baby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 even warns Mrs. Vaughan to hide her money after the landlord propositions to help Joe steal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y exploit the Vice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Vaughan is already acting suspiciously crazy; but instead of adding to the rumors and the gossip, they defend her and make themselves appear to have her best interest in mind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azier Mrs. Vaughan appears, the more reliable and good natured the couple appears to the neighborhood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llow the neighbors and friends to come up with their desired conclusion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ighbors decide that she is crazy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ighbors decide that they should not be living with her because it isn't safe for the baby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ighbors decide that she should be taken into a hom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about where this adage applies, and you've found a plot for a Come Into My Parlor stor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17220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y seal the tra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community believes that they are doing the right thing by bringing her to an institution, Mrs. Vaughan is trapped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cker, she willingly goes to what she thinks is a visit with Mrs. Mace, the old landla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has no idea that she is trapped until Joe tells her in the car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scene with the conversation between Joe and Marilyn reveals that Mrs. Vaughan is now buried by Mrs. Mace in a field of wild flowers, and now they have the place to themselve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507960"/>
            <a:ext cx="716256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807696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263600"/>
            <a:ext cx="4876560" cy="4684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29240" y="1676520"/>
            <a:ext cx="36147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 rich quick schemes, shoddy investment plans, free downloads, and anything where your gut tells you that there must be a catch somewhe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is formula, the victim unknowingly lured into a trap set by the criminal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19360" y="20574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20:39:48Z</dcterms:created>
  <dc:creator>Leah Vanderwarker</dc:creator>
  <dc:description/>
  <dc:language>en-US</dc:language>
  <cp:lastModifiedBy>Leah Vanderwarker</cp:lastModifiedBy>
  <dcterms:modified xsi:type="dcterms:W3CDTF">2012-11-13T15:44:00Z</dcterms:modified>
  <cp:revision>13</cp:revision>
  <dc:subject/>
  <dc:title>Come into My Parlor</dc:title>
</cp:coreProperties>
</file>