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33C4A7-0F2B-4276-A833-C291E33516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5DA921-BDC1-43C1-85BE-67310FF61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59177D-46C5-4EEF-84F3-79F2872688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DBE369-58F7-4E50-8A8B-10237234BB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B9B9FA-0627-450D-9D47-7C63D5544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A8365-C5A1-43E2-8894-C23C46FF5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6B542-959E-4276-A084-7F43B0A9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26EE3-DE15-4372-85DB-CA9F512A9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8CC78-14EC-4566-83EE-F9F7EE59D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BF28F-99D8-4CC2-ADEE-B8DBF9590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B2913-9DE1-4E0F-AFC3-E7E4D8692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8CCF04-32A2-4D0E-975F-AA6E0A8CDC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DE50B-D5BF-4421-883B-DEAB28FE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D087A-0805-4DBC-8CC1-669465AFA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15356-2B76-455C-9D3D-48F9AC337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12CC6-0F09-4CC3-99E5-5CE0F6C92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521BB4-FAC4-4ED0-9B5D-9F557ACCC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EC91C8-FD81-4C7C-8D02-5801063D1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33F306-629B-461D-84EE-CA24F351F2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877C82-C433-476D-9C00-13D68DE8F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E83B41-F613-4C1E-82E9-4CDC78978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A271E-E168-494E-9927-ED01F4BE24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1D2EF-0693-4811-B7C5-A33B6D5FD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85B294-807E-419E-BCA3-56372B0B351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FE18-F15E-4DDE-9938-20543970BF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FF7F-BAB3-40ED-9521-358E94EA1D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gradesaver.com/poe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gradesaver.com/character.html?character=23083"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dgar Allan Poe’s</a:t>
            </a:r>
            <a:br>
              <a:rPr sz="5000"/>
            </a:br>
            <a:r>
              <a:rPr b="0" lang="en-US" sz="5000" spc="-1" strike="noStrike">
                <a:solidFill>
                  <a:srgbClr val="ffffff"/>
                </a:solidFill>
                <a:latin typeface="Arial"/>
              </a:rPr>
              <a:t>“The Raven”</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nalysi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aven" refers to an agonized protagonist's memories of a deceased woman. </a:t>
            </a:r>
            <a:endParaRPr b="0" lang="en-US" sz="4000" spc="-1" strike="noStrike">
              <a:solidFill>
                <a:srgbClr val="000000"/>
              </a:solidFill>
              <a:latin typeface="Arial"/>
            </a:endParaRPr>
          </a:p>
        </p:txBody>
      </p:sp>
      <p:sp>
        <p:nvSpPr>
          <p:cNvPr id="125" name="PlaceHolder 2"/>
          <p:cNvSpPr>
            <a:spLocks noGrp="1"/>
          </p:cNvSpPr>
          <p:nvPr>
            <p:ph/>
          </p:nvPr>
        </p:nvSpPr>
        <p:spPr>
          <a:xfrm>
            <a:off x="457200" y="2504880"/>
            <a:ext cx="8229600" cy="3362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poetry, Lenore's premature death is implicitly made aesthetic, and the narrator is unable to free himself of his reliance upon her memory.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sks the raven if there is "balm in Gilead" and therefore spiritual salvation, or if Lenore truly exists in the afterlife, but the raven confirms his worst suspicions by rejecting his supplica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ar of death or of oblivion informs much of Poe's writing, and "The Raven" is one of his bleakest publications because it provides such a definitively negative ans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ven: bearer of Bad News</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e's choice of a raven as the bearer of ill news is appropriate for a number of reaso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Poe sought only a dumb beast that was capable of producing human-like sounds without understanding the words' meaning, and he claimed that earlier conceptions of "The Raven" included the use of a parrot.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sense, the raven is important because it allows the narrator to be both the deliverer and interpreter of the sinister message, without the existence of a blatantly supernatural interv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ven: Bearer of Bad News</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same time, the raven's black feather have traditionally been considered a magical sign of ill ome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e may also be referring to Norse mythology, where the god Odin had two ravens named Hugin and Munin, which respectively meant "thought" and "memor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narrator is a student and thus follows Hugin, but Munin continually interrupts his thoughts and in this case takes a physical form by landing on the bust of Pallas, which alludes to Athena, the Greek goddess of learning. </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reliable Narrator?</a:t>
            </a: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the late hour of the poem's setting and to the narrator's mental turmoil, the poem calls the narrator's reliability into question.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first the narrator attempts to give his experiences a rational explanation, but by the end of the poem, he has ceased to give the raven any interpretation beyond that which he invents in his own h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 Among Yourselves</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The Raven:” is it a poem about:</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ness and Los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nes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oem in which music (sound) is more important than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http://www.gradesaver.com/poes-</a:t>
            </a:r>
            <a:r>
              <a:rPr b="0" lang="en-US" sz="3200" spc="-1" strike="noStrike">
                <a:solidFill>
                  <a:srgbClr val="000000"/>
                </a:solidFill>
                <a:latin typeface="Arial"/>
              </a:rPr>
              <a:t>	</a:t>
            </a:r>
            <a:r>
              <a:rPr b="0" lang="en-US" sz="3200" spc="-1" strike="noStrike">
                <a:solidFill>
                  <a:srgbClr val="000000"/>
                </a:solidFill>
                <a:latin typeface="Arial"/>
              </a:rPr>
              <a:t>poetry/study-guide/section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u="sng">
                <a:solidFill>
                  <a:srgbClr val="666699"/>
                </a:solidFill>
                <a:uFillTx/>
                <a:latin typeface="Arial"/>
                <a:hlinkClick r:id="rId1"/>
              </a:rPr>
              <a:t>The Raven</a:t>
            </a:r>
            <a:r>
              <a:rPr b="0" lang="en-US" sz="3200" spc="-1" strike="noStrike" u="sng">
                <a:solidFill>
                  <a:srgbClr val="000000"/>
                </a:solidFill>
                <a:uFillTx/>
                <a:latin typeface="Arial"/>
              </a:rPr>
              <a:t>" is the most famous of Poe's poems, notable for its melodic and dramatic qua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hyme and Meter</a:t>
            </a:r>
            <a:endParaRPr b="0" lang="en-US" sz="4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ter of the poem is mostly trochaic octameter, with eight stressed-unstressed two-syllable feet per lin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ined with the predominating ABCBBB end rhyme scheme and the frequent use of internal rhyme, the trochaic octameter and the refrain of "nothing more" and "nevermore" give the poem a musical lilt when read alou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nanc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e also emphasizes the "O" sound in words such as "Lenore" and "nevermore" in order to underline the melancholy and lonely sound of the poem and to establish the overall atmosp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tition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ly, the repetition of "nevermore" gives a circular sense to the poem and contributes to what Poe termed the unity of effect, where each word and line adds to the larger meaning of the po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Poetic Devices Used:</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teration: repetition of the initial sound</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weak and weary” (1)</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odded, nearly, napping” (4)</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omatopoeia: the use of words whose sounds suggest the natural sound of an object or activity</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ping</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thic Elements</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named narrator appears in a typically Gothic setting with a lonely apartment, a dying fire, and a "bleak December" night while wearily studying his books in an attempt to distract himself from his trou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ot</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hinks occasionally of Lenore but is generally able to control his emotions, although the effort required to do so tires him and makes his words equally slow and outwardly pacifi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cus on E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over the course of the narrative, the protagonist becomes more and more agitated both in mind and in action:</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progression that he demonstrates through his rationalizations and eventually through his increasingly exclamation-ridden monologue.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very stanza near the end, however, his exclamations are punctuated by the calm desolation of the sentence "Quoth the Raven, 'Nevermore,'" reflecting the despair of his sou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6:45:34Z</dcterms:created>
  <dc:creator>Leah Vanderwarker</dc:creator>
  <dc:description/>
  <dc:language>en-US</dc:language>
  <cp:lastModifiedBy>Leah Vanderwarker</cp:lastModifiedBy>
  <dcterms:modified xsi:type="dcterms:W3CDTF">2011-12-13T20:49:29Z</dcterms:modified>
  <cp:revision>4</cp:revision>
  <dc:subject/>
  <dc:title>Edgar Allan Poe’s “The Raven”</dc:title>
</cp:coreProperties>
</file>