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1EA-58D2-44CB-AA04-FEF6EEBAA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BCE-4A26-45DF-9BD5-85E7C7B8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1FC1-473F-4D5B-87FD-21E9EC8D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F167-49A6-4E00-9856-7515A6AC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E3B7-5ACA-43BF-9C6D-E682538C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87C7-63EF-445B-B32D-389FE74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E911-E508-408A-A258-D44F1EBC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D1C7-8043-4AFD-B2C9-85C622D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D1FC-6E7C-4409-B9B1-B202C4CB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B0B0-7693-4A51-87D5-BD11BB51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1E5E-F496-4F24-BACF-C16BEAA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DE0E-660D-4FE5-9CA0-7DCC88FD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BB6B-046F-458B-B169-C66F1580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E8F-1020-4813-91BC-E81594C7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598F-DD97-40D9-B79D-D5AF23DF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AD60-A6D6-40A7-99DB-975ADEE8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220F-3EF3-49EB-8B4F-563FD70B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27C-DE5B-4401-97B3-7298C725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0B2-09BC-449A-8052-06373CF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C10-0370-40FD-9005-99B67D60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F77-05D8-4719-9C75-C0D6BF19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9D4-DF5D-498D-86D3-4CDA956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0BD-5A91-489F-BB3A-769A5D3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5E7-BDDC-44C8-881D-AEADA177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6E26-6243-4C6D-B91A-590C57BF8D7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0965-2AA6-43A8-BEB2-CE89064E84B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e/ernesthemi146433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e/ernesthemi395308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Ernest Hemingwa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5486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-19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371760" y="160020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3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inner Take Noth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5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Green Hills of Afric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7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o Have and Have No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191120" cy="3368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00600" y="3738600"/>
            <a:ext cx="4038480" cy="3119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868320" y="3352680"/>
            <a:ext cx="2771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0: marries Martha Gellhorn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Whom the Bell Tol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45: he and Martha divorce; marries Mary Wels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0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cross the River and Into the Tre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1: mother d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3254400"/>
            <a:ext cx="61722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52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Old Man and the S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wins Pulitzer Prize; survives two plane crash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733920" y="2041560"/>
            <a:ext cx="51814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54: wins Nobel Prize for lit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61: commits suicide on July 2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good books have one thing in common - they are truer than if they had really happened. </a:t>
            </a:r>
            <a:br>
              <a:rPr sz="2600"/>
            </a:b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Ernest Hemingway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46483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mes &amp;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his early years, Hemingway was very close to Sherwood Anderson, a writer he highly admir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erson found a willing, enthusiastic pupil in Hemingway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long after the relationship that started with Anderson, people began labeling Hemingway as Anderson's discip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mingway didn't like this because he wanted to be his own ma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resulted was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he Torrents of Spring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which Hemingway "ridiculed and parodied Anderson's style of writing, his characters, and his most cherished ideas about life."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viously, their friendship end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mes &amp;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mingway was greatly disturbed by his father's suicid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questioned his father's courage, or lack of coura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father had taught him to admire courag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, Hemingway defined courage as grace under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 his father could not handle this extreme press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felt his father had somehow failed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on, Hemingway assumed the nickname Papa, which he held to the end of his lif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aking on the burden of being the person, or ideal papa, that his own father had failed to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1952, Hemingway had become the most publicized writer in Americ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urko notes that "everything he said and did was avidly recorded by the columnists" and  "his emphatic personality supplied newspapers and magazine editors with endlessly colorful copy" (Gurko 48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y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mingway has had an enormous influence on American writers, mainly because of his unique writing sty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used simple nouns and verbs and was still able to capture the scene precisel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provided detached descriptions of action in that he avoided describing the thoughts and emotions of his characters in a direct w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 interview fro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odern Critical Views: Ernest Hemingwa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emingway was asked how detached from and experience must he be before writing about it in fictional terms; i.e., the African air crashes.  Hemingway respo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depends on the experience. One part of you sees it with complete detachment from the start. Another part is very involved. I think there is no rule about how soon one shoul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e about it.  It would depend on how well adjusted the individual was and on his or her recuperative powers. Certainly it is valuable to a trained writer to crash in an aircraft which burns.” (13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bout morals, I know only that what is moral is what you feel good after and what is immoral is what you feel bad after. </a:t>
            </a:r>
            <a:br>
              <a:rPr sz="3800"/>
            </a:br>
            <a:r>
              <a:rPr b="0" lang="en-US" sz="3800" spc="-1" strike="noStrike" u="sng">
                <a:solidFill>
                  <a:srgbClr val="996600"/>
                </a:solidFill>
                <a:uFillTx/>
                <a:latin typeface="Garamond"/>
                <a:hlinkClick r:id="rId1"/>
              </a:rPr>
              <a:t>Ernest Hemingway</a:t>
            </a:r>
            <a:r>
              <a:rPr b="0" lang="en-US" sz="3800" spc="-1" strike="noStrike" u="sng">
                <a:solidFill>
                  <a:srgbClr val="006633"/>
                </a:solidFill>
                <a:uFillTx/>
                <a:latin typeface="Garamond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505320"/>
            <a:ext cx="2151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“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 Another Country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other Country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erally: An American in Milan, Italy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aphorically: Look at the the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ch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ar of deat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y of the characters grapple with a loss of function, a loss of purpose, and a loss of faith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ppears contagiou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characters lose the normal use of a limb--the narrator (leg) and the major (hand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most all the characters in the story are portrayed as casualties of some so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7222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the soldiers, courage is not just facing enemy fire on the front line but also picking up the pieces of their damaged lives and facing the prospect of tomorrow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, it seems, is forever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me of the Story and, and its relation to the Title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how do the themes in the story relate to the tit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rmine the Plo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nother Country” is a character driven pl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focuses on the psychological conflicts and development of the American and the Maj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tion is usually the character’s inner thoughts and feel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imax of the story is a psychological turning point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racter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and interpret the American’s feelings and though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he feel about his injuri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his view of the machin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he believe the doc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and interpret the Major’s ac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he believe the Doct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has he lo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ill he reg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gnize the Point of Vie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Person Limit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es this affect the ta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mpact does it have on the theme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Narrator reliab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ages, Details, and Symbol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achin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rid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ou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Wa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iography 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99: born in Oak Park, Illino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7: receives job on Kansas Cit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3733560" cy="2936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34800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18: becomes a Red Cross ambulance driver and is sent to Italian front during First World War where he is wounded; meets Agnesvon Kurowsky in Mila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38760" y="1600200"/>
            <a:ext cx="36813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19: sails home to Americ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0: accepts job at Toron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r Week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; meets Hadley Richardson; leaves Toronto for Chicago to write 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Cooperative Commonweal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1: Hemingway marries Hadley Richardson; moves to Par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2178000"/>
            <a:ext cx="43434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3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ree Stories and Ten Poe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ur Tim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only 170 copies) published in Europe; first son, John, bor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25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 Our Time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erican edition, is the first of Hemingway's books to appear in his own coun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24440" y="838080"/>
            <a:ext cx="3701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6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Torrents of Spr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Sun Also Ris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dley and Hemingway separ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08480" y="1143000"/>
            <a:ext cx="3070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7: Hemingway marries Pauline Pfeiffer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n Without Wom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8: moves to Key West, Florida; father commits suicide; birth of second son, Patri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4267080"/>
            <a:ext cx="3124080" cy="227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040360" y="457200"/>
            <a:ext cx="3897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29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 Farewell to Ar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0: Hemingway is severely injured in an automobile accident (1st of three serious car crash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932: Third son and last child, Gregory, born;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ath in the Afterno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76640" y="990720"/>
            <a:ext cx="3662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3:02:25Z</dcterms:created>
  <dc:creator>Leah Vanderwarker</dc:creator>
  <dc:description/>
  <dc:language>en-US</dc:language>
  <cp:lastModifiedBy>Leah Vanderwarker</cp:lastModifiedBy>
  <dcterms:modified xsi:type="dcterms:W3CDTF">2012-05-17T17:20:39Z</dcterms:modified>
  <cp:revision>8</cp:revision>
  <dc:subject/>
  <dc:title>Ernest Hemingway</dc:title>
</cp:coreProperties>
</file>