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016-574B-4A90-B62F-020AF2B4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9A6-26FD-4A5E-848A-F6678857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F02-5B26-453D-852E-0E607D84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F5A-6356-49DB-8E23-01147DE3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0B06-7272-4B42-913E-5D7CD06F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3FC6-75A7-45D7-92A6-5D24E6DF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CD0-1A20-41A6-B3DE-7CEC2E55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C8F-CB99-459B-811D-0A14E7A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5082-C630-4DE2-A905-D94E1F66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E807-FFDC-497D-8149-81B447A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719-9BB0-448D-8BB7-1E97EBA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803-FD54-47C6-B98A-99429B25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4BA-0284-401C-8153-453B2C3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6179-4561-4743-BC45-6DF8642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26A0-5824-4181-A891-5721A79F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1CED-5FFB-4B39-944A-4A6B8B71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66C5-5FBD-4561-8E2D-A9204DB7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CEA-A397-45E8-AE82-1B595CD7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2FE-3098-449B-88BC-FB324AC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CB9-73CE-4824-916B-6A993CF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C0D-F737-4862-8838-4BD0051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763-3252-463C-B1B9-8D9DCED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09C-5DFD-4809-B7BE-1935ABF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280-FC3E-4C65-AE92-A608D87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325-5411-4FBB-AAA2-3C64384C22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3437-716F-4E2C-8C9E-62C6CA56C82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e/ernesthemi146433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e/ernesthemi395308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Ernest Hemingwa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-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71760" y="16002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3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inner Take Noth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5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Green Hills of Afr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7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 Have and Have 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33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738600"/>
            <a:ext cx="4038480" cy="311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68320" y="3352680"/>
            <a:ext cx="2771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0: marries Martha Gellhorn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Whom the Bell To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5: he and Martha divorce; marries Mary Wels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0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ross the River and Into the Tre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1: mother d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3254400"/>
            <a:ext cx="61722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2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wins Pulitzer Prize; survives two plane cras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33920" y="2041560"/>
            <a:ext cx="51814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54: wins Nobel Prize for lit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61: commits suicide on July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good books have one thing in common - they are truer than if they had really happened. </a:t>
            </a:r>
            <a:br>
              <a:rPr sz="2600"/>
            </a:b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Ernest Hemingwa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46483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mes &amp;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his early years, Hemingway was very close to Sherwood Anderson, a writer he highly admi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erson found a willing, enthusiastic pupil in Hemingwa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long after the relationship that started with Anderson, people began labeling Hemingway as Anderson's discip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mingway didn't like this because he wanted to be his own ma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resulted was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Torrents of Spring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which Hemingway "ridiculed and parodied Anderson's style of writing, his characters, and his most cherished ideas about life."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viously, their friendship end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mes &amp;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mingway was greatly disturbed by his father's suicid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questioned his father's courage, or lack of coura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father had taught him to admire coura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, Hemingway defined courage as grace under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 his father could not handle this extreme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felt his father had somehow failed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on, Hemingway assumed the nickname Papa, which he held to the end of his lif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aking on the burden of being the person, or ideal papa, that his own father had failed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1952, Hemingway had become the most publicized writer in Americ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rko notes that "everything he said and did was avidly recorded by the columnists" and  "his emphatic personality supplied newspapers and magazine editors with endlessly colorful copy" (Gurko 48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mingway has had an enormous influence on American writers, mainly because of his unique writing sty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used simple nouns and verbs and was still able to capture the scene precise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provided detached descriptions of action in that he avoided describing the thoughts and emotions of his characters in a direct w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 interview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dern Critical Views: Ernest Hemingw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emingway was asked how detached from and experience must he be before writing about it in fictional terms; i.e., the African air crashes.  Hemingway respo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depends on the experience. One part of you sees it with complete detachment from the start. Another part is very involved. I think there is no rule about how soon one shou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bout it.  It would depend on how well adjusted the individual was and on his or her recuperative powers. Certainly it is valuable to a trained writer to crash in an aircraft which burns.” (13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bout morals, I know only that what is moral is what you feel good after and what is immoral is what you feel bad after. </a:t>
            </a:r>
            <a:br>
              <a:rPr sz="3800"/>
            </a:br>
            <a:r>
              <a:rPr b="0" lang="en-US" sz="38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Ernest Hemingway</a:t>
            </a:r>
            <a:r>
              <a:rPr b="0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2151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 Another Country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other Countr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erally: An American in Milan,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phorically: Look at the t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ch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r of dea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f the characters grapple with a loss of function, a loss of purpose, and a loss of fait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ppears contagio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haracters lose the normal use of a limb--the narrator (leg) and the major (hand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all the characters in the story are portrayed as casualties of some so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722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the soldiers, courage is not just facing enemy fire on the front line but also picking up the pieces of their damaged lives and facing the prospect of tomorrow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, it seems, is forev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how do the themes in the story relate to the tit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rmine the Plo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other Country” is a character driven pl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focuses on the psychological conflicts and development of the American and the Maj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tion is usually the character’s inner thoughts and feel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imax of the story is a psychological turning poin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racter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and interpret the American’s feelings and though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he feel about his inju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his view of the machin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he believe the doc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and interpret the Major’s 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he believe the Doc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has he lo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he reg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gnize the Point of 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Person Limi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this affect the ta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mpact does it have on the the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Narrator rel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s, Details, and Symbol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chi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rid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ou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a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graphy 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99: born in Oak Park, Illino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7: receives job on Kansas Cit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733560" cy="293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348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8: becomes a Red Cross ambulance driver and is sent to Italian front during First World War where he is wounded; meets Agnesvon Kurowsky in Mi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38760" y="1600200"/>
            <a:ext cx="36813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19: sails home to Americ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0: accepts job at Toron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 Week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meets Hadley Richardson; leaves Toronto for Chicago to write 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Cooperative Commonweal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1: Hemingway marries Hadley Richardson; moves to Par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178000"/>
            <a:ext cx="43434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3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ree Stories and Ten Poe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ur Tim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nly 170 copies) published in Europe; first son, John, bor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5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ur Tim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erican edition, is the first of Hemingway's books to appear in his own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24440" y="838080"/>
            <a:ext cx="370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6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Torrents of Spr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Sun Also Ri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dley and Hemingway separ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08480" y="1143000"/>
            <a:ext cx="307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7: Hemingway marries Pauline Pfeiffer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n Without Wo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8: moves to Key West, Florida; father commits suicide; birth of second son, Patri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4267080"/>
            <a:ext cx="3124080" cy="227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40360" y="457200"/>
            <a:ext cx="389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9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Farewell to Ar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0: Hemingway is severely injured in an automobile accident (1st of three serious car crash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2: Third son and last child, Gregory, born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ath in the Afterno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76640" y="990720"/>
            <a:ext cx="3662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3:02:25Z</dcterms:created>
  <dc:creator>Leah Vanderwarker</dc:creator>
  <dc:description/>
  <dc:language>en-US</dc:language>
  <cp:lastModifiedBy>Leah Vanderwarker</cp:lastModifiedBy>
  <dcterms:modified xsi:type="dcterms:W3CDTF">2012-05-17T17:20:39Z</dcterms:modified>
  <cp:revision>8</cp:revision>
  <dc:subject/>
  <dc:title>Ernest Hemingway</dc:title>
</cp:coreProperties>
</file>