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0A0F-A154-4779-8AAC-137A88D04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A813D-8573-4820-89BA-78059D16D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D66A5-384C-472E-9943-CB85C87F71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BD730-A4F2-4C65-ABC2-59E1569B1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35855-6F34-4A43-AF75-BA02DE69C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F4E6F-34D4-4625-9040-9E39CB051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9ABD1-FC3D-4601-BC1E-8682F1247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10C33-2CA7-4D22-B8BB-BD9720C94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D0811-84D0-4047-A389-813AD40B0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CE64-2FE2-4492-9245-EEB299742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D5D4-11E9-4AFE-838F-D22EB6A4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D228-2750-4770-B058-E59EFE03F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A441-2640-4363-AA89-EDF1B7EBB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mula: Hoist on their Own Petards</a:t>
            </a:r>
            <a:br>
              <a:rPr sz="4000"/>
            </a:b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190760"/>
            <a:ext cx="6400800" cy="1447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unpredictable variable occurs and causes the plan to backfire. </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8" name="Picture 5" descr="ANd9GcRkTTbAApZWSyHpPrPZbnUXoIqMqSj8_6y50WuVvp620yX7Pw4x"/>
          <p:cNvPicPr/>
          <p:nvPr/>
        </p:nvPicPr>
        <p:blipFill>
          <a:blip r:embed="rId1"/>
          <a:stretch/>
        </p:blipFill>
        <p:spPr>
          <a:xfrm>
            <a:off x="2286000" y="4145040"/>
            <a:ext cx="3733920" cy="2820960"/>
          </a:xfrm>
          <a:prstGeom prst="rect">
            <a:avLst/>
          </a:prstGeom>
          <a:ln w="0">
            <a:noFill/>
          </a:ln>
        </p:spPr>
      </p:pic>
      <p:pic>
        <p:nvPicPr>
          <p:cNvPr id="69" name="Picture 8" descr="ANd9GcTHgOOssvzTOgej6Nt9ApYYUoNN48eyT35u7HBSkZmFXeu2AI1C4g"/>
          <p:cNvPicPr/>
          <p:nvPr/>
        </p:nvPicPr>
        <p:blipFill>
          <a:blip r:embed="rId2"/>
          <a:stretch/>
        </p:blipFill>
        <p:spPr>
          <a:xfrm>
            <a:off x="2286000" y="1600200"/>
            <a:ext cx="4114800" cy="246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times it's as if the universe would not allow such an evil crime to succeed or the evil doer to get away with it.</a:t>
            </a:r>
            <a:endParaRPr b="0" lang="en-US" sz="4000" spc="-1" strike="noStrike">
              <a:solidFill>
                <a:srgbClr val="000000"/>
              </a:solidFill>
              <a:latin typeface="Arial"/>
            </a:endParaRPr>
          </a:p>
        </p:txBody>
      </p:sp>
      <p:pic>
        <p:nvPicPr>
          <p:cNvPr id="71" name="Picture 5" descr="ANd9GcQVcZrprFeNFg70e9ff98VtvYiK3E5FZJpZZAAoiGW1mIX4X0h3"/>
          <p:cNvPicPr/>
          <p:nvPr/>
        </p:nvPicPr>
        <p:blipFill>
          <a:blip r:embed="rId1"/>
          <a:stretch/>
        </p:blipFill>
        <p:spPr>
          <a:xfrm>
            <a:off x="1828800" y="3002040"/>
            <a:ext cx="4857840" cy="385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Sometimes there is a detective, but the focus is on the plan fail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Picture 5" descr="http://upload.wikimedia.org/wikipedia/en/8/88/Tobeepornottobeep.jpg"/>
          <p:cNvPicPr/>
          <p:nvPr/>
        </p:nvPicPr>
        <p:blipFill>
          <a:blip r:embed="rId1"/>
          <a:stretch/>
        </p:blipFill>
        <p:spPr>
          <a:xfrm>
            <a:off x="1981080" y="255276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tective is only necessary after a crime has been committed, so often there is no character in the story acting as a dete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detective is sometimes a present character if the criminal is a repeat offender who has tested his luck on too many tim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Picture 2" descr="Picture"/>
          <p:cNvPicPr/>
          <p:nvPr/>
        </p:nvPicPr>
        <p:blipFill>
          <a:blip r:embed="rId1"/>
          <a:stretch/>
        </p:blipFill>
        <p:spPr>
          <a:xfrm>
            <a:off x="1981080" y="9360"/>
            <a:ext cx="5156280" cy="684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a:t>
            </a:r>
            <a:endParaRPr b="0" lang="en-US" sz="4400" spc="-1" strike="noStrike">
              <a:solidFill>
                <a:srgbClr val="000000"/>
              </a:solidFill>
              <a:latin typeface="Arial"/>
            </a:endParaRPr>
          </a:p>
        </p:txBody>
      </p:sp>
      <p:sp>
        <p:nvSpPr>
          <p:cNvPr id="81" name=""/>
          <p:cNvSpPr txBox="1"/>
          <p:nvPr/>
        </p:nvSpPr>
        <p:spPr>
          <a:xfrm>
            <a:off x="457200" y="1600200"/>
            <a:ext cx="3657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94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tmas 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at 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ddle of a Snowstorm</a:t>
            </a:r>
            <a:endParaRPr b="0" lang="en-US" sz="3200" spc="-1" strike="noStrike">
              <a:solidFill>
                <a:srgbClr val="000000"/>
              </a:solidFill>
              <a:latin typeface="Arial"/>
            </a:endParaRPr>
          </a:p>
        </p:txBody>
      </p:sp>
      <p:pic>
        <p:nvPicPr>
          <p:cNvPr id="82" name="Picture 4" descr="http://pic.pilpix.com/19/19047/christmas-eve.jpg"/>
          <p:cNvPicPr/>
          <p:nvPr/>
        </p:nvPicPr>
        <p:blipFill>
          <a:blip r:embed="rId1"/>
          <a:stretch/>
        </p:blipFill>
        <p:spPr>
          <a:xfrm>
            <a:off x="4114800" y="1905120"/>
            <a:ext cx="432900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The evil doer will get what they deserve. </a:t>
            </a:r>
            <a:endParaRPr b="0" lang="en-US" sz="60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evil doer: Ned Chiv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tages a robbery on his own wi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disguise was intended to from an African American man, with the idea that one would get accused and found guilty because of the lack of legal support he would receiv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ould mean that he would get away with the crime while letting another suffer for it. </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What does he deserve? Death</a:t>
            </a:r>
            <a:endParaRPr b="0" lang="en-US" sz="6000" spc="-1" strike="noStrike">
              <a:solidFill>
                <a:srgbClr val="000000"/>
              </a:solidFill>
              <a:latin typeface="Arial"/>
            </a:endParaRPr>
          </a:p>
        </p:txBody>
      </p:sp>
      <p:sp>
        <p:nvSpPr>
          <p:cNvPr id="86" name=""/>
          <p:cNvSpPr txBox="1"/>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willing to set up another man to possibly die in taking the fall for his crim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he got what was coming to hi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1. Appreciate the Genius of the Plan: </a:t>
            </a:r>
            <a:endParaRPr b="0" lang="en-US" sz="60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was all alone with no chance of any more witnesses.</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believed that the money was well hidden and that no one knew that it was there.</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d had a good Alibi</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fe would have accused a black man of the robbery, so no suspicion would fall on 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2. Appreciate the backfiring of the Plan:</a:t>
            </a:r>
            <a:endParaRPr b="0" lang="en-US" sz="60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The unpredictable variable: The Stranger Arrive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think that the stranger is the bad guy who might commit a crime</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of being the bad guy, he is the hero as he saves Letty from the robbery.  </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kills the intruder</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realizes that the intruder was actually her husband in disgu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saying comes from a type of cannon (Petard) that would often backfire</a:t>
            </a:r>
            <a:endParaRPr b="0" lang="en-US" sz="4000" spc="-1" strike="noStrike">
              <a:solidFill>
                <a:srgbClr val="000000"/>
              </a:solidFill>
              <a:latin typeface="Arial"/>
            </a:endParaRPr>
          </a:p>
        </p:txBody>
      </p:sp>
      <p:sp>
        <p:nvSpPr>
          <p:cNvPr id="44" name="PlaceHolder 2"/>
          <p:cNvSpPr>
            <a:spLocks noGrp="1"/>
          </p:cNvSpPr>
          <p:nvPr>
            <p:ph/>
          </p:nvPr>
        </p:nvSpPr>
        <p:spPr>
          <a:xfrm>
            <a:off x="457200" y="1981080"/>
            <a:ext cx="8229600" cy="4145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nstead of sending a cannonball and potentially killing the enemy, it would kill the people trying to fire 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Sometimes there is a detective, but the focus is on the plan fai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
          <p:cNvSpPr txBox="1"/>
          <p:nvPr/>
        </p:nvSpPr>
        <p:spPr>
          <a:xfrm>
            <a:off x="457200" y="2361960"/>
            <a:ext cx="8229600" cy="3763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detective, but the truth is realized between Letty and the Intrud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is formula, the evil-genius plan backfires upon the criminal.</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formula functions of the ideal that good will always triumph evil and that there is no such thing as the perfect crime.  The evil doer will get what they deserv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formula functions of the ideal that: 1. Good will always triumph evil</a:t>
            </a:r>
            <a:endParaRPr b="0" lang="en-US" sz="4000" spc="-1" strike="noStrike">
              <a:solidFill>
                <a:srgbClr val="000000"/>
              </a:solidFill>
              <a:latin typeface="Arial"/>
            </a:endParaRPr>
          </a:p>
        </p:txBody>
      </p:sp>
      <p:sp>
        <p:nvSpPr>
          <p:cNvPr id="48" name="PlaceHolder 2"/>
          <p:cNvSpPr>
            <a:spLocks noGrp="1"/>
          </p:cNvSpPr>
          <p:nvPr>
            <p:ph/>
          </p:nvPr>
        </p:nvSpPr>
        <p:spPr>
          <a:xfrm>
            <a:off x="457200" y="2742840"/>
            <a:ext cx="4038480" cy="3382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Picture 6" descr="ANd9GcSG5xbBfhm-DQjrhfFf5tPJ62qODXjL3VBL9Sx73vC6Gb_pVtqt"/>
          <p:cNvPicPr/>
          <p:nvPr/>
        </p:nvPicPr>
        <p:blipFill>
          <a:blip r:embed="rId1"/>
          <a:stretch/>
        </p:blipFill>
        <p:spPr>
          <a:xfrm>
            <a:off x="1752480" y="2362320"/>
            <a:ext cx="6220080" cy="3732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There is no such thing as the perfect crime. </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5" descr="ANd9GcS2hqwzgjAWZFdm3mBuFmzH0sfhVkNaeam-97n-kHO8X0Wzq07U"/>
          <p:cNvPicPr/>
          <p:nvPr/>
        </p:nvPicPr>
        <p:blipFill>
          <a:blip r:embed="rId1"/>
          <a:stretch/>
        </p:blipFill>
        <p:spPr>
          <a:xfrm>
            <a:off x="1752480" y="1541520"/>
            <a:ext cx="5486400" cy="531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he evil doer will get what they deserve.</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5" name="AutoShape 5"/>
          <p:cNvSpPr/>
          <p:nvPr/>
        </p:nvSpPr>
        <p:spPr>
          <a:xfrm>
            <a:off x="3338640" y="2505240"/>
            <a:ext cx="2466720" cy="184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7" descr="0"/>
          <p:cNvPicPr/>
          <p:nvPr/>
        </p:nvPicPr>
        <p:blipFill>
          <a:blip r:embed="rId1"/>
          <a:stretch/>
        </p:blipFill>
        <p:spPr>
          <a:xfrm>
            <a:off x="1828800" y="19051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1" lang="en-US" sz="4000" spc="-1" strike="noStrike">
                <a:solidFill>
                  <a:srgbClr val="000000"/>
                </a:solidFill>
                <a:latin typeface="Arial"/>
              </a:rPr>
              <a:t>Appreciate the Genius of the Pla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AutoShape 9"/>
          <p:cNvSpPr/>
          <p:nvPr/>
        </p:nvSpPr>
        <p:spPr>
          <a:xfrm>
            <a:off x="3200400" y="2595600"/>
            <a:ext cx="2743200" cy="166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14" descr="ANd9GcTNT-MxWhBv6LaC0WYPhTsi9GmDiHyJxjRjgrXlrMMTOLAMHlxPYw"/>
          <p:cNvPicPr/>
          <p:nvPr/>
        </p:nvPicPr>
        <p:blipFill>
          <a:blip r:embed="rId1"/>
          <a:stretch/>
        </p:blipFill>
        <p:spPr>
          <a:xfrm>
            <a:off x="762120" y="1523880"/>
            <a:ext cx="7543800" cy="471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plan should appear to be the perfect crime.</a:t>
            </a:r>
            <a:endParaRPr b="0" lang="en-US" sz="4000" spc="-1" strike="noStrike">
              <a:solidFill>
                <a:srgbClr val="000000"/>
              </a:solidFill>
              <a:latin typeface="Arial"/>
            </a:endParaRPr>
          </a:p>
        </p:txBody>
      </p:sp>
      <p:sp>
        <p:nvSpPr>
          <p:cNvPr id="62" name="PlaceHolder 2"/>
          <p:cNvSpPr>
            <a:spLocks noGrp="1"/>
          </p:cNvSpPr>
          <p:nvPr>
            <p:ph/>
          </p:nvPr>
        </p:nvSpPr>
        <p:spPr>
          <a:xfrm>
            <a:off x="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l details should be carefully laid out and nothing obvious overlook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should appear to the reader that nothing could possibly go wrong. </a:t>
            </a:r>
            <a:endParaRPr b="0" lang="en-US" sz="2800" spc="-1" strike="noStrike">
              <a:solidFill>
                <a:srgbClr val="000000"/>
              </a:solidFill>
              <a:latin typeface="Arial"/>
            </a:endParaRPr>
          </a:p>
        </p:txBody>
      </p:sp>
      <p:pic>
        <p:nvPicPr>
          <p:cNvPr id="63" name="Picture 5" descr="ANd9GcQ2Z8NFcqEpYc7Rw2NUKcaMYi1G3JcEvKgIO3BejlDemM4knVUuJg"/>
          <p:cNvPicPr/>
          <p:nvPr/>
        </p:nvPicPr>
        <p:blipFill>
          <a:blip r:embed="rId1"/>
          <a:stretch/>
        </p:blipFill>
        <p:spPr>
          <a:xfrm>
            <a:off x="4038480" y="1905120"/>
            <a:ext cx="5105520" cy="3612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Appreciate the backfiring of the Plan:</a:t>
            </a:r>
            <a:endParaRPr b="0" lang="en-US" sz="4000" spc="-1" strike="noStrike">
              <a:solidFill>
                <a:srgbClr val="000000"/>
              </a:solidFill>
              <a:latin typeface="Arial"/>
            </a:endParaRPr>
          </a:p>
        </p:txBody>
      </p:sp>
      <p:pic>
        <p:nvPicPr>
          <p:cNvPr id="65" name="Picture 5" descr="ANd9GcTKqhFXRKFmbNpvJ6qAo_IM55Jd6gwnd3EIlOlM3q5M8rM5Zamr"/>
          <p:cNvPicPr/>
          <p:nvPr/>
        </p:nvPicPr>
        <p:blipFill>
          <a:blip r:embed="rId1"/>
          <a:stretch/>
        </p:blipFill>
        <p:spPr>
          <a:xfrm>
            <a:off x="1676520" y="1957320"/>
            <a:ext cx="5181480" cy="4318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5:52:47Z</dcterms:created>
  <dc:creator>Leah Vanderwarker</dc:creator>
  <dc:description/>
  <dc:language>en-US</dc:language>
  <cp:lastModifiedBy>Leah Vanderwarker</cp:lastModifiedBy>
  <dcterms:modified xsi:type="dcterms:W3CDTF">2013-10-29T16:01:10Z</dcterms:modified>
  <cp:revision>17</cp:revision>
  <dc:subject/>
  <dc:title>Formula: Hoist on their Own Petards </dc:title>
</cp:coreProperties>
</file>