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E1F0F-366C-4305-B505-9FCCB3AB3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AEE3C-6C48-4045-B497-8E34F79EA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019D0-6CA1-4F03-80A6-5936B1C83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79796-ABFD-486D-9C74-86E1AB705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CE785-B792-46BB-BCAD-F0A9B8D1E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28A00-71A3-4F89-AC2B-F90C9AC1C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3FEB0-B84A-480D-854F-D923C5FEE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6C710-54DA-4A81-B1D5-A422A26E7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D87B6-AFF3-49E6-A8F7-2E18CD6E9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DE134-58D0-4E0B-B9A3-703E893BE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D5912-8921-4E9B-8D5B-6EE44F0C0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1DC6-047F-4A93-A685-52A9A5132B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FF82-8686-421B-8791-A457232A8A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a:t>
            </a:r>
            <a:r>
              <a:rPr b="1" lang="en-GB" sz="4400" spc="-1" strike="noStrike">
                <a:solidFill>
                  <a:srgbClr val="000000"/>
                </a:solidFill>
                <a:latin typeface="Arial"/>
              </a:rPr>
              <a:t>Hop-Frog” by Edgar Allan Po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nocence over education/sophistication</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ippetta and Hop-Frog are ‘innocent’ and less educated than the King and his ministers who are educated and of a higher statu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rtrayal of Trippetta and Hop-Frog as dwarfs make them seem more like children, which helps in the portrayal of their innocen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the King and his ministers are seen as the antagonists, this shows Poe’s preference towards innocence rather than sophistication, as well as his preference towards those of lower status than those of higher stat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Use of Language:</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King’s treatment of Hop-Frog worsens (he turns from a ‘king’ to a ‘tyrant’ to a ‘monster’) This makes us sympathize with him and pardons his act of reven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s negative language like ‘oily’ and ‘corpulent’ to describe the King and his Ministers, which helps to present them as the antagonis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tition of the word “joke” in opening paragraph creates tension and emphasizes Hop-Frog’s discomfo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p-Frog covers the King and his Council in tar and flax, which are symbols of humiliation and punishment throughout history.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ron chains that the King and his Council are trapped in might also symbolise the entrapment of Hop-Frog and Trippetta, showing that Hop-Frog and Trippetta have escaped from their chains and are turning the tables on the King and his Counc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foreshadowing of the King and his Council’s fate earlier on in the story, when Hop-Frog dresses up the King and his Council as Oranguta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Hop-Frog passed the residue of the chain, in two diameters, at right angles, across the circle, after the fashion adopted, at the present day, by those who capture Chimpanzees, or other large apes, in Borne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hints at the ending, with Hop-Frog capturing the King and his Council, dressed as ‘apes’, with the ch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Use of Contras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King has power over Hop-Frog and Trippetta in the beginning of the short story, but in the end, it is Hop-Frog who holds the King’s life in his ha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Ton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s a fairytale-like quality to i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lot is unrealistic and fantasy-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ery dark, horror gen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iewpoint:</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rst person point-of-vie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narrator is a subject of the King’s royal court, which makes the short story a little unreliabl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 does not outright acknowledge the King’s cruelty and sadism, though he does use words like “monster” and “tyrant” to describe the 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Relation to ‘Outsider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h Hop-Frog and Trippetta are slaves from a foreign l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 they are ‘different’ (both in nationality and in appearance), they are ostracised and treated as inferi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 also of lower class, and serves only as entertainment for the higher clas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p-Frog is not just an outsider to the other characters in the story (with the exception of Trippetta), but also an outsider to the reader him/herself.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is is because he is neither purely good nor purely evil (like how the King and his Council is portrayed). The reader does sympathise with him (especially in the beginning), but after he exacts revenge on the King and his Council, the reader can no longer identify with Hop-Frog.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p-Frog reduces the King and his Council to a “fetid, blackened, hideous, and indistinguishable mass”, which gives the reader conflicting thoughts about the moral stance of the protagonis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being the protagonist, Hop-Frog shows a lack of compassion or conscience, showing no regret or guilt for murdering the King and his Counci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Other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it was written 12 years before the US Civil War, it contains anti-slavery messa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Poe Hop-Frog?</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p-Frog has parallels to Edgar Allan Poe’s life, where he was ‘kidnapped from home and presented to the king’ (his mother died, his father abandoned him and John Allan, his wealthy foster father, took him i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haracter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King and his Minister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s the highest status, rules over Hop-Frog and Trippett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re the antagonists of the short story.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cribed as ‘large, corpulent, oil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King is sadistic, though he disguises it for joviality.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can be seen through Hop-Frog, whose “value was trebled in the eyes of the king, by the fact of his being also a dwarf and a cripp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Hop-Frog cries after being reminded of his ‘absent friends’, the King laughs and finds entertainment in his suffer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th Hop-Frog and Poe could not hold their alcoho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e’s original father abused his mother. This parallels the King’s treatment of Trippett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At last, without uttering a syllable, he pushed her violently from him, and threw the contents of the brimming goblet in her fa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p-Frog’s act of revenge portrays the achievement Poe wishes he could have had were he of an older age when his father abused his moth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ing co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the King does not see his treatment of Hop-Frog and Trippetta as cru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p-Frog says “But </a:t>
            </a:r>
            <a:r>
              <a:rPr b="0" i="1" lang="en-GB" sz="2400" spc="-1" strike="noStrike">
                <a:solidFill>
                  <a:srgbClr val="000000"/>
                </a:solidFill>
                <a:latin typeface="Arial"/>
              </a:rPr>
              <a:t>just after</a:t>
            </a:r>
            <a:r>
              <a:rPr b="0" lang="en-GB" sz="2400" spc="-1" strike="noStrike">
                <a:solidFill>
                  <a:srgbClr val="000000"/>
                </a:solidFill>
                <a:latin typeface="Arial"/>
              </a:rPr>
              <a:t> your majesty had struck the girl and thrown the wine in her face…there came into my mind a capital divers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King does not detect any hint of revenge or sinister ideas from Hop-Frog’s statement, which suggests that he does not think there is any reason for Hop-Frog to want reven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were costumed as Orangutans during the masquerad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because they were a new discovery during the 19th Century, and, as much wasn’t known about them, people thought of them as beasts with brute strength and little to no intelligence at al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as they were in very convincing costumes, any feelings of remorse or sympathy the audience might have for them are erased, and replaced with a fear of these “ferocious-looking creat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p-Fro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wer stat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oppressed by the King and his Minist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aves from a foreign land.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 is described as a “triplicate treasure”: A fool, a cripple and a dwarf all in on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grating of his teeth is done right before he devises his plan for revenge and right before actually putting it into action.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e creates sympathy for Hop-Frog in the reader by writing about past events concerning Hop-Frog, as well as telling his back story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etition of the word “joke” in the opening paragraph creates tension and emphasizes Hop-Frog’s discomf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609120"/>
            <a:ext cx="8229600" cy="586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ippet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is badly treated in the story, as she is ‘admired’ and ‘petted’, while the King and his Council humiliates her by throwing wine in her fa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she is first introduced, only her aesthetic characteristics are described, showing that the King and his Council only think of her as a doll or showpiece, instead of an actual human being.</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though of exquisite proportions, and a marvellous danc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Grace and exquisite beauty…universally admired and pet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Main Theme(s):</a:t>
            </a: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eng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rives the main plot and is Hop-Frog’s main reason for carrying out his ac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p-Frog’s thirst for revenge mainly fuelled by the King’s mistreatment of him and Trippett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low, harsh, grating” of Hop-Frog’s teeth often accompanies his thoughts of revenge [elaborated on under the ‘Characters’ section below].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pite setting the country’s </a:t>
            </a:r>
            <a:r>
              <a:rPr b="0" i="1" lang="en-GB" sz="2400" spc="-1" strike="noStrike">
                <a:solidFill>
                  <a:srgbClr val="000000"/>
                </a:solidFill>
                <a:latin typeface="Arial"/>
              </a:rPr>
              <a:t>King and his Council</a:t>
            </a:r>
            <a:r>
              <a:rPr b="0" lang="en-GB" sz="2400" spc="-1" strike="noStrike">
                <a:solidFill>
                  <a:srgbClr val="000000"/>
                </a:solidFill>
                <a:latin typeface="Arial"/>
              </a:rPr>
              <a:t> on fire during a massive masquerade, Hop-Frog and Trippetta manage to escape with no persecution or consequences whatsoever.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ogether, they effected their escape to their own country; for neither was seen aga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Romanticis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manticism took place during the late 18th Century and the early 19th Century and celebrated nature rather than civilis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few of its characteristics are shown in Hop-Fro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motions over reas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p-Frog acts on his emotions, rather than on logic and reaso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he burns the King and his ministers, he doesn’t think it through logically, and does what he can to protect himself and Trippetta.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fter committing his act of revenge, Hop-Frog does not face any repercussions (or rather, he successfully avoids any repercussions) and escapes with Trippetta.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ir victory shows how, in this short story, emotions are more important than reas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4T16:09:16Z</dcterms:created>
  <dc:creator>Leah Vanderwarker</dc:creator>
  <dc:description/>
  <dc:language>en-US</dc:language>
  <cp:lastModifiedBy>Leah Vanderwarker</cp:lastModifiedBy>
  <dcterms:modified xsi:type="dcterms:W3CDTF">2013-01-04T16:29:33Z</dcterms:modified>
  <cp:revision>14</cp:revision>
  <dc:subject/>
  <dc:title>Hop-Frog by Edgar Allan Poe</dc:title>
</cp:coreProperties>
</file>