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99F4-1094-41D9-A804-B8D6F3880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2B4-ACFC-4E5B-BC3A-B8828204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C5DB-60BD-4FB6-8B19-D961D9D8A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F10-F6D0-4A02-A921-B96DC7DB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416-7E42-4A79-B2A0-C07290E0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539-2D27-4987-B1EF-50623C7A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D2B-E0E1-4871-84A3-1F776E04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833D-3F84-4783-BDB7-ABE6EF23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227E-3965-4E76-B42A-B718EF01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9A6-A539-42D7-986D-34189238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44E-8946-4A5E-868A-2ED74451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89A-9778-42A5-8100-F22B2983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4445-51AC-43EA-BDEA-2ACC0814F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nfes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 Art the Man,” by Edgar Allan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encrypted-tbn1.gstatic.com/images?q=tbn:ANd9GcSUd-Oq5oDwU_sciii2ZtrjDMYFKYPMS8idliRlh5dp1vOQxrs7Kg"/>
          <p:cNvPicPr/>
          <p:nvPr/>
        </p:nvPicPr>
        <p:blipFill>
          <a:blip r:embed="rId1"/>
          <a:stretch/>
        </p:blipFill>
        <p:spPr>
          <a:xfrm>
            <a:off x="2209680" y="0"/>
            <a:ext cx="441972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ract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les Goodfellow: Mr. Shuttleworthy's neigh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Pennifeather: Mr. Shuttleworthy's prodigal neph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Shuttleworthy: Wealthy Man &amp; Vict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 Herring: Mr. Pennif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ircumstantial Evidence: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s after his uncle disappear and knows all about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Shuttleworthy threatened to disinherit him, and they had argued about it the day the uncledisappe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. Pennifeather knew about the money Mr. Shuttleworthy was bringing to the b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deer hunting in the woods by the pool that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lanted Eviden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velvet waist coat at the bottom of the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loody shirt hidden in 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ullet found in the horse was from his g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Shuttleworthy's leather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ifeather’s kn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s of Guilt: Mr. Goodfel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inces the townspeople to not search for Mr. Shuttleworthy (even though his horse returned on its own with a bullet hole through i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ds suspicion to Pennifeather’s knowledge of the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s the search party to the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draining it to find the evidence he’s pl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emns Pennifeather by calling him the “sole heir” while trying to defend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als Pennifeather’s knife that he “found” in the grass and tried to “hid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sses to overhearing an argument about Penniworth being disinherited on Shuttleworthy’s trip to t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s the bullet in the horse that matches the rif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ctive: Nar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tective is the narrator, who happens to be another person in th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olves the crime and then tricks Goodfellow into confes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s://encrypted-tbn0.gstatic.com/images?q=tbn:ANd9GcTf7VQWlP85fP9Tfi3ttaMW8U7c603gPa_0cHAL66tHZdDJYBN7"/>
          <p:cNvPicPr/>
          <p:nvPr/>
        </p:nvPicPr>
        <p:blipFill>
          <a:blip r:embed="rId1"/>
          <a:stretch/>
        </p:blipFill>
        <p:spPr>
          <a:xfrm>
            <a:off x="2133720" y="0"/>
            <a:ext cx="472428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inds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ks a whale bone down it’s thr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ds it down into the wine c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ligingly opens it at the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ventriloquism to make the body seem to say to Goodfellow “Thou art the man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s://encrypted-tbn0.gstatic.com/images?q=tbn:ANd9GcSYb5MZ-dUgYg1S6u9l4T4Uc0sYoP_CyVulKHJIt0pwE2pCW4lA"/>
          <p:cNvPicPr/>
          <p:nvPr/>
        </p:nvPicPr>
        <p:blipFill>
          <a:blip r:embed="rId1"/>
          <a:stretch/>
        </p:blipFill>
        <p:spPr>
          <a:xfrm>
            <a:off x="1600200" y="14400"/>
            <a:ext cx="533412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Presumption of Guilt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ormula suggests that all criminals experience gui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t assumes that the criminal knows that they have done something wrong.  In this case, the criminal must feel guilt, even if it is only subconscious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Signs of guilt are always present, if the detective is clever enough to notice them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The detective has psychological insight: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tective (the one who is able to get the confession) has knowledge of what those signs of guilt might be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minal may have everyone else fooled, but the detective can see through the act and decipher the criminal's guilty conscience through small actions and det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Contest of Wills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often a contest of wills between a detectiv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has an un-provable gut-feelin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crimin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may only be tricked into confes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 The Detective knows the exact way to get a confession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sychological insight that the detective has allows him/her to convince or trick the criminal into a confession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m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the criminal back to the crime sce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them in their own web of l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em a piece of previously unknown eviden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create some evi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huffingtonpost.com/2012/11/05/james-washington-death-bed-confession_n_2076932.html?utm_hp_ref=email_share http://www.huffingtonpost.com/2012/11/05/james-washington-death-bed-confession_n_2076932.html?utm_hp_ref=email_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"Thou Art the Man," by Edgar Allan Po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ttps://encrypted-tbn2.gstatic.com/images?q=tbn:ANd9GcS3I_5v6nobZCWg4Zf-TGTF5t227CX_ellXMfdt9GgtGG-6dAEWow"/>
          <p:cNvPicPr/>
          <p:nvPr/>
        </p:nvPicPr>
        <p:blipFill>
          <a:blip r:embed="rId1"/>
          <a:stretch/>
        </p:blipFill>
        <p:spPr>
          <a:xfrm>
            <a:off x="2514600" y="1600200"/>
            <a:ext cx="390528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6:42:09Z</dcterms:created>
  <dc:creator>Leah Vanderwarker</dc:creator>
  <dc:description/>
  <dc:language>en-US</dc:language>
  <cp:lastModifiedBy>Leah Vanderwarker</cp:lastModifiedBy>
  <dcterms:modified xsi:type="dcterms:W3CDTF">2013-10-29T20:34:19Z</dcterms:modified>
  <cp:revision>36</cp:revision>
  <dc:subject/>
  <dc:title>I Confess!</dc:title>
</cp:coreProperties>
</file>