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78E0-F25D-47A4-9301-EE89BCCFF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C0DA-C492-4996-B5A1-BBCDB5DA4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7D19-29DB-4A8D-AABA-738CDDD39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B916-251B-4BCC-A31E-BA122B346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084A-E737-4998-96EA-4E17A9B3C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F0B0-9801-4C65-B3A4-6006C731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68B0-0F30-44AC-975D-8D4E986A7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383A-6350-4694-9B37-2EA2D56AE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270A-4AF4-4509-BBD9-3B6BFC74E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CE29-74D5-495F-9620-7FE1AF2C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999B-9B93-4E36-BFBB-BE7BD7DB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1CBB-DEE6-47AF-8A1E-B998FE28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6E51A-EA88-4612-86CF-30A45C3B6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Confes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u Art the Man,” by Edgar Allan P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https://encrypted-tbn1.gstatic.com/images?q=tbn:ANd9GcSUd-Oq5oDwU_sciii2ZtrjDMYFKYPMS8idliRlh5dp1vOQxrs7Kg"/>
          <p:cNvPicPr/>
          <p:nvPr/>
        </p:nvPicPr>
        <p:blipFill>
          <a:blip r:embed="rId1"/>
          <a:stretch/>
        </p:blipFill>
        <p:spPr>
          <a:xfrm>
            <a:off x="2209680" y="0"/>
            <a:ext cx="4419720" cy="66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aracter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les Goodfellow: Mr. Shuttleworthy's neighb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. Pennifeather: Mr. Shuttleworthy's prodigal neph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. Shuttleworthy: Wealthy Man &amp; Vict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d Herring: Mr. Pennifea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ircumstantial Evidence: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ears after his uncle disappear and knows all about th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r. Shuttleworthy threatened to disinherit him, and they had argued about it the day the uncledisappea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r. Pennifeather knew about the money Mr. Shuttleworthy was bringing to the ban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was deer hunting in the woods by the pool that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Planted Evidenc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velvet waist coat at the bottom of the p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loody shirt hidden in his 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ullet found in the horse was from his g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. Shuttleworthy's leather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ifeather’s kn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gns of Guilt: Mr. Goodfel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inces the townspeople to not search for Mr. Shuttleworthy (even though his horse returned on its own with a bullet hole through i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nds suspicion to Pennifeather’s knowledge of the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s the search party to the p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draining it to find the evidence he’s pla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emns Pennifeather by calling him the “sole heir” while trying to defend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eals Pennifeather’s knife that he “found” in the grass and tried to “hid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esses to overhearing an argument about Penniworth being disinherited on Shuttleworthy’s trip to t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s the bullet in the horse that matches the rif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ctive: Nar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tective is the narrator, who happens to be another person in the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solves the crime and then tricks Goodfellow into confes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https://encrypted-tbn0.gstatic.com/images?q=tbn:ANd9GcTf7VQWlP85fP9Tfi3ttaMW8U7c603gPa_0cHAL66tHZdDJYBN7"/>
          <p:cNvPicPr/>
          <p:nvPr/>
        </p:nvPicPr>
        <p:blipFill>
          <a:blip r:embed="rId1"/>
          <a:stretch/>
        </p:blipFill>
        <p:spPr>
          <a:xfrm>
            <a:off x="2133720" y="0"/>
            <a:ext cx="4724280" cy="66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finds the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cks a whale bone down it’s thro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ds it down into the wine c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ligingly opens it at the pa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ventriloquism to make the body seem to say to Goodfellow “Thou art the man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https://encrypted-tbn0.gstatic.com/images?q=tbn:ANd9GcSYb5MZ-dUgYg1S6u9l4T4Uc0sYoP_CyVulKHJIt0pwE2pCW4lA"/>
          <p:cNvPicPr/>
          <p:nvPr/>
        </p:nvPicPr>
        <p:blipFill>
          <a:blip r:embed="rId1"/>
          <a:stretch/>
        </p:blipFill>
        <p:spPr>
          <a:xfrm>
            <a:off x="1600200" y="14400"/>
            <a:ext cx="533412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. Presumption of Guilt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formula suggests that all criminals experience guil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It assumes that the criminal knows that they have done something wrong.  In this case, the criminal must feel guilt, even if it is only subconscious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Signs of guilt are always present, if the detective is clever enough to notice them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. The detective has psychological insight: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tective (the one who is able to get the confession) has knowledge of what those signs of guilt might be.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riminal may have everyone else fooled, but the detective can see through the act and decipher the criminal's guilty conscience through small actions and detai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. Contest of Wills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often a contest of wills between a detectiv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has an un-provable gut-feeling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he crimina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may only be tricked into confess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. The Detective knows the exact way to get a confession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sychological insight that the detective has allows him/her to convince or trick the criminal into a confession.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m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ng the criminal back to the crime scen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ch them in their own web of li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them a piece of previously unknown evidenc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create some evid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huffingtonpost.com/2012/11/05/james-washington-death-bed-confession_n_2076932.html?utm_hp_ref=email_share http://www.huffingtonpost.com/2012/11/05/james-washington-death-bed-confession_n_2076932.html?utm_hp_ref=email_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"Thou Art the Man," by Edgar Allan Po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https://encrypted-tbn2.gstatic.com/images?q=tbn:ANd9GcS3I_5v6nobZCWg4Zf-TGTF5t227CX_ellXMfdt9GgtGG-6dAEWow"/>
          <p:cNvPicPr/>
          <p:nvPr/>
        </p:nvPicPr>
        <p:blipFill>
          <a:blip r:embed="rId1"/>
          <a:stretch/>
        </p:blipFill>
        <p:spPr>
          <a:xfrm>
            <a:off x="2514600" y="1600200"/>
            <a:ext cx="3905280" cy="49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9T16:42:09Z</dcterms:created>
  <dc:creator>Leah Vanderwarker</dc:creator>
  <dc:description/>
  <dc:language>en-US</dc:language>
  <cp:lastModifiedBy>Leah Vanderwarker</cp:lastModifiedBy>
  <dcterms:modified xsi:type="dcterms:W3CDTF">2013-10-29T20:34:19Z</dcterms:modified>
  <cp:revision>36</cp:revision>
  <dc:subject/>
  <dc:title>I Confess!</dc:title>
</cp:coreProperties>
</file>