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C92-7F3F-42AA-8D6E-89116F52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81D-8E3D-42ED-BD84-30DD9C13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423-7E49-4EB4-95A4-2F5B4D8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F23-6E42-4B30-948B-4181FFE8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53EA-EEC7-40B5-B328-D03D8A02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44D-6BB1-421A-B35E-EA1821D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F55-05AF-45D2-AA99-6F76A79A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0756-377E-487D-8339-626B1FC3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AB8-9E54-45C6-B3F9-BB9EADD3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9DFD-0C6F-4106-B974-B8517F6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7B51-AA05-4708-96F5-782AA6A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6CA-A677-4948-B50D-33C48CCA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2028-8EC2-4AE2-B8AE-F4BB40F7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8618-CA13-4632-B164-A31C0B5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A272-2A88-452B-BD40-6E7034E4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2829-A94C-4309-B096-026E3ABA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AE0-88DD-48D1-82B4-B8D2C5DA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D09-DBDD-4078-8754-D6C30BE5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6E8-3D40-4421-A4E9-21BC93B4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745-A19F-451A-A199-F497844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AA7-A8E2-4ED1-AC06-8AE98EF0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FAB-45C0-4B88-A669-8F8C510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A21-5BBC-4E67-AFBF-FCAA1247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665-A1A1-4D7B-A92F-91C2C59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D959-1182-4A6A-9E06-4723D474E7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BC8B-90B8-40F2-9AAD-5114C740DB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ove Poetry: Unit Review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94776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You’ll Love Me Yet” by Robert Browning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'll love me yet and I can tar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love's protracted growing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reared that bunch of flowers you car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eeds of April's sowing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plant a heartful now: some se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is sure to strik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yield what you'll not pluck indeed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ove, but, may be, like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'll look at least on love's remai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ave's one violet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look? that pays a thousand pai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's death? You'll love me ye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nnet 43” Elizabeth Barrette Brown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23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love thee? Let me count the way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to the depth and breadth and he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oul can reach, when feeling out of 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ends of Being and ideal Gra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to the level of everyday’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quiet need, by sun and candle-ligh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freely, as men strive for Righ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purely, as they turn from Prai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with the passion put to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y old griefs, and with my childhood’s fai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with a love I seemed to l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y lost saints,—I love thee with the breath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iles, tears, of all my life!—and, if God cho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hall but love thee better after death.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0 Things I Hate About You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the way you talk to me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way you cut your hai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the way you drive my car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 star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your big dumb combat boot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way you read my mind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you so much it makes me sick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ven makes me rhym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the way you’re always r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 li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 make me laugh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orse when you make me cr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’re not around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fact that you didn’t call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mostly I hate the way I don’t hate you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close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a little bit…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at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om </a:t>
            </a: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Hero and Leander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y Christopher Marlow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ies not in our power to love, or hat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ll in us is over-rulde by f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wo are stript long ere the course begi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sh that one should lose, the other w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e especially doo we affec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wo gold Ingots like in each respec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no man knowes, let it suffi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hold is censur’d by our ey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both deliberat, the love is sligh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ver lov’d, that lov’d not at first sight?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nnet 18” by William Shakespea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1426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I compare thee to a summer’s da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 art more lovely and more tempera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winds do shake the darling buds of M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ummer’s lease hath all too short a da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 too hot the eye of heaven shin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ten is his gold complexion dimm’d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very fair from fair sometime declin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ce or nature’s changing course untrimm’d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y eternal summer shall not fa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lose possession of that fair thou owes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shall Death brag thou wander’st in his sha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 eternal lines to time thou growes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long as men can breathe or eyes can se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long lives this and this gives life to the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 Poet to His Beloved”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y William Butler Yea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ring you with reverent hand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ooks of my numberless dreams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te woman that passion has wor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the tide wears the dove-gray sand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th heart more old than the hor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 brimmed from the pale fire of tim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te woman with numberless drea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ring you my passionate rhyme.</a:t>
            </a:r>
            <a:br>
              <a:rPr sz="3000"/>
            </a:br>
            <a:br>
              <a:rPr sz="1900"/>
            </a:br>
            <a:br>
              <a:rPr sz="1900"/>
            </a:b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5:05:32Z</dcterms:created>
  <dc:creator>Leah</dc:creator>
  <dc:description/>
  <dc:language>en-US</dc:language>
  <cp:lastModifiedBy>Leah Vanderwarker</cp:lastModifiedBy>
  <dcterms:modified xsi:type="dcterms:W3CDTF">2011-02-14T21:32:45Z</dcterms:modified>
  <cp:revision>6</cp:revision>
  <dc:subject/>
  <dc:title>Love Poetry: Unit Review</dc:title>
</cp:coreProperties>
</file>