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11D2-449E-4B37-A573-162866F2B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4977-D35D-422C-8A85-B8286AA01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00EE-369E-4278-AFEC-FBE7087C8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9C63-BDD1-4D61-ACAE-22B78D150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F72BD-3954-495F-B17A-329E1FE3F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A980B-5F4A-49A0-AB18-935104844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5A2CE-40C9-4F72-AB88-D0266CA5F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74D74-C93B-442B-8E86-FC39C720F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D1E35-32F2-4D47-AC83-914B33677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1D9D9-BC29-4887-8E54-4117CAD3C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57D36-2030-4055-8EF7-C77CA80C1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914A-757B-4BB7-98FB-CA82787B7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4C402-BB3B-42A3-816E-F8B7D32C9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DDE5A-3D54-428D-A5F2-30A837A63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6D25B-CC0E-4DF9-BBA8-4133AC2F5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23B08-A5F6-498A-9244-8171B2ED8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F64C7-20DA-4A39-A384-F8B6F8205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B920-B0D1-4D89-83E1-C992956E0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84D9-A356-4857-92C8-C389D6589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87EC-2F7A-4DF6-B11F-7603D2E3C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5A1F-D178-4FB9-B76B-CA839720B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6441-F2F5-44E0-9588-F7B6CF99E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948F-EF5D-44A6-B612-CA01A0352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665D-E337-4FBF-B036-2AC0B16B4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2E1A8-28F8-4FA8-B865-159F6C48267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62076-DF56-48ED-A8D9-1EF3D6E43BE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Love Poetry: Unit Review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371600" y="3947760"/>
            <a:ext cx="6400800" cy="17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330066"/>
                </a:solidFill>
                <a:latin typeface="Arial"/>
              </a:rPr>
              <a:t>“</a:t>
            </a:r>
            <a:r>
              <a:rPr b="0" lang="en-US" sz="3500" spc="-1" strike="noStrike">
                <a:solidFill>
                  <a:srgbClr val="330066"/>
                </a:solidFill>
                <a:latin typeface="Arial"/>
              </a:rPr>
              <a:t>You’ll Love Me Yet” by Robert Browning</a:t>
            </a:r>
            <a:br>
              <a:rPr sz="3500"/>
            </a:b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u'll love me yet and I can tarry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ur love's protracted growing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reared that bunch of flowers you carry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om seeds of April's sowing.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plant a heartful now: some se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 least is sure to strike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yield what you'll not pluck indeed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 love, but, may be, like!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u'll look at least on love's remains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grave's one violet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ur look? that pays a thousand pains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's death? You'll love me yet!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“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Sonnet 43” Elizabeth Barrette Browning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5238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I love thee? Let me count the ways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love thee to the depth and breadth and heigh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y soul can reach, when feeling out of sigh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the ends of Being and ideal Grace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love thee to the level of everyday’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quiet need, by sun and candle-light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love thee freely, as men strive for Right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love thee purely, as they turn from Praise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love thee with the passion put to us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my old griefs, and with my childhood’s faith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love thee with a love I seemed to los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my lost saints,—I love thee with the breath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iles, tears, of all my life!—and, if God choose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shall but love thee better after death.</a:t>
            </a:r>
            <a:br>
              <a:rPr sz="2800"/>
            </a:br>
            <a:br>
              <a:rPr sz="2800"/>
            </a:b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“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10 Things I Hate About You”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21896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hate the way you talk to me,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the way you cut your hair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hate the way you drive my car,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hate it when you stare.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hate your big dumb combat boots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the way you read my mind.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hate you so much it makes me sick,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even makes me rhyme.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hate the way you’re always righ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648320" y="121896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hate it when you lie.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hate it when you make me laugh,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n worse when you make me cry.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hate it when you’re not around,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the fact that you didn’t call.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mostly I hate the way I don’t hate you,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close…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a little bit…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at a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From </a:t>
            </a:r>
            <a:r>
              <a:rPr b="1" i="1" lang="en-US" sz="3500" spc="-1" strike="noStrike">
                <a:solidFill>
                  <a:srgbClr val="330066"/>
                </a:solidFill>
                <a:latin typeface="Arial"/>
              </a:rPr>
              <a:t>Hero and Leander </a:t>
            </a:r>
            <a:br>
              <a:rPr sz="3500"/>
            </a:b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by Christopher Marlowe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lies not in our power to love, or hate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will in us is over-rulde by fate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two are stript long ere the course begin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wish that one should lose, the other win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one especially doo we affect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wo gold Ingots like in each respect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ason no man knowes, let it suffise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we behold is censur’d by our eyes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both deliberat, the love is slight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ever lov’d, that lov’d not at first sight?</a:t>
            </a:r>
            <a:br>
              <a:rPr sz="2800"/>
            </a:br>
            <a:br>
              <a:rPr sz="2800"/>
            </a:b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06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“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Sonnet 18” by William Shakespeare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14264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ll I compare thee to a summer’s day?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ou art more lovely and more temperate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gh winds do shake the darling buds of May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summer’s lease hath all too short a date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time too hot the eye of heaven shines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often is his gold complexion dimm’d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every fair from fair sometime declines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hance or nature’s changing course untrimm’d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thy eternal summer shall not fad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r lose possession of that fair thou owest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r shall Death brag thou wander’st in his shade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in eternal lines to time thou growest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 long as men can breathe or eyes can see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 long lives this and this gives life to thee.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“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A Poet to His Beloved” </a:t>
            </a:r>
            <a:br>
              <a:rPr sz="3500"/>
            </a:b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by William Butler Yeat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 bring you with reverent hands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books of my numberless dreams;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ite woman that passion has worn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s the tide wears the dove-gray sands,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d with heart more old than the horn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at is brimmed from the pale fire of time: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ite woman with numberless dreams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 bring you my passionate rhyme.</a:t>
            </a:r>
            <a:br>
              <a:rPr sz="3000"/>
            </a:br>
            <a:br>
              <a:rPr sz="1900"/>
            </a:br>
            <a:br>
              <a:rPr sz="1900"/>
            </a:br>
            <a:r>
              <a:rPr b="0" lang="en-US" sz="19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4T05:05:32Z</dcterms:created>
  <dc:creator>Leah</dc:creator>
  <dc:description/>
  <dc:language>en-US</dc:language>
  <cp:lastModifiedBy>Leah Vanderwarker</cp:lastModifiedBy>
  <dcterms:modified xsi:type="dcterms:W3CDTF">2011-02-14T21:32:45Z</dcterms:modified>
  <cp:revision>6</cp:revision>
  <dc:subject/>
  <dc:title>Love Poetry: Unit Review</dc:title>
</cp:coreProperties>
</file>