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DDE31-72EF-422B-967C-C2CB1E809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4BF72-2274-4D30-9F09-DABFE00EC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420A5-B00C-4422-9661-A83995CE7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A019B-A935-4449-9474-0354CB9AA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D37D3-F21F-4A08-B659-C980381E7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68BB2F-C7F9-47DA-B323-E5B3F2960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7405F-10FC-42D6-AD83-2749B0BC1B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B209E-E2FC-4956-82F6-A48B5961B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4CCC7-DAB6-42DA-83FE-86A16862C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D4087-50B1-4A23-92B9-CFCBF640A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56BD7-36F9-48FA-846A-83E80D0E4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D0741-F425-48F1-ACCE-BA87D2E1B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120F8-80D4-4886-9602-4E0383293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73914-20A2-4D7A-8B0D-186D69E80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AF58A-C760-4978-A201-C8D8C5376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BE9C9C-1E23-4E32-841E-EED25A70C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22EE4-C726-4129-A112-1AF9377AE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F49CE-8798-4246-A06F-A72FF6C99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621AA-C315-4F6A-B064-B58622806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226CD-79F0-442A-9CCE-960BA4771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553B1-D70C-47CA-A628-2CAB1C2AE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0C9D9-C19B-4BA4-B00E-C6BAFA3FF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21ED4-02EA-4AAE-A665-34DD52E92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D80C0-817A-4C8D-9F57-0B7A25BDE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30CB-65AB-41A2-BB86-4BDC85D48C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C9D6-B8BA-4F1A-BC38-59BE7417CD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0066"/>
                </a:solidFill>
                <a:latin typeface="Arial"/>
              </a:rPr>
              <a:t>Paradise Lost</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ohn Mil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IX</a:t>
            </a:r>
            <a:endParaRPr b="1" lang="en-US" sz="3900" spc="-1" strike="noStrike">
              <a:solidFill>
                <a:srgbClr val="330066"/>
              </a:solidFill>
              <a:latin typeface="Arial"/>
            </a:endParaRPr>
          </a:p>
        </p:txBody>
      </p:sp>
      <p:sp>
        <p:nvSpPr>
          <p:cNvPr id="17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atan returns to earth, where he chooses the serpent as his best disguis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xt morning, when Adam and Eve go forth to their gardening tasks, Eve suggests they go in separate directions. With great reservation, Adam finally consent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serpent finds Eve alone and approaches her. She is surprised to find the creature can speak, and is soon induced by him to eat the fruit of the forbidden tre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am is horrified when he finds what she has done, but at length resignes himself to share her fate rather than be left without her, and eats the fruit also.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eating, they then fall into a restless sleep. They waken to awareness of their nakedness and shame, and cover themselves with leave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ir emotional distress, they fall into mutual accusations and blam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X</a:t>
            </a:r>
            <a:endParaRPr b="1" lang="en-US" sz="3900" spc="-1" strike="noStrike">
              <a:solidFill>
                <a:srgbClr val="330066"/>
              </a:solidFill>
              <a:latin typeface="Arial"/>
            </a:endParaRPr>
          </a:p>
        </p:txBody>
      </p:sp>
      <p:sp>
        <p:nvSpPr>
          <p:cNvPr id="172"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guardian angels return to heaven, sad for man's failure, and the Son of God descends to earth to judge the sinners. Mercifully, he delays their sentence of death many days, during which they may work to regain God's favor. Then, in pity, he clothes them both.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the gates of hell, Sin and Death sense the success of Satan in this new world.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set out to build a highway over chaos to make future passage to earth easier.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tan meets them on his return voyage to hell, and marvels at the great structure. </a:t>
            </a:r>
            <a:endParaRPr b="0" lang="en-US" sz="1700" spc="-1" strike="noStrike">
              <a:solidFill>
                <a:srgbClr val="000000"/>
              </a:solidFill>
              <a:latin typeface="Arial"/>
            </a:endParaRPr>
          </a:p>
        </p:txBody>
      </p:sp>
      <p:sp>
        <p:nvSpPr>
          <p:cNvPr id="173" name="PlaceHolder 3"/>
          <p:cNvSpPr>
            <a:spLocks noGrp="1"/>
          </p:cNvSpPr>
          <p:nvPr>
            <p:ph/>
          </p:nvPr>
        </p:nvSpPr>
        <p:spPr>
          <a:xfrm>
            <a:off x="4648320" y="1599840"/>
            <a:ext cx="4038480" cy="525780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on his arrival in Pandemonium, Satan boasts of his success to the assembly. Instead of applauding him, they can only hiss, for they and he have all been turned into snakes, their punishment from abov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od instructs his angels what changed conditions must prevail in the world, now in fallen state, while on earth, Adam bemoans his miserable condition and the fate of the human rac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e harshly rejects Eve's attempt to console him, but she persists and wins his forgivenes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e proposes they commit suicide, but Adam reminds her of God's promise that her seed should wreak vengeance upon the serpent. Moreover, they must seek to make peace with their offended Lord.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XI</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d sends Michael and his band to expel the sinning pair from Paradise, but first to reveal to Adam future events, resulting from his sin.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ngel descends to Eden with the news of their expulsion, causing Eve to withdraw in tear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chael leads Adam up a high hill, where he sets before him in visions what shall happen till the Great Floo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XII</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ichael continues in prophecy from the flood by degrees to explain who the Seed of woman shall be, the Savior which was promised, who shall redeem mankind.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dam is recomforted by these last revelations and resolves faithful obedienc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descends the hill with Michael and rejoins Eve, who is wakened from gentle sleep, reconfirmed in allegiance to her husband.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flaming sword is placed to bar the gates behind them, as Adam and Eve are sent away from Paradise.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I</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brief introduction mentions the fall of Adam and Eve caused by the serpent, which was Satan, who led the angels in revolt against God and was cast into hell.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cene then opens on Satan lying dazed in the burning lake, with Beelzebub, next in command, beside him.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tan assembles his fallen legions on the shore, where he revives their spirits by his speech. </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set to building a palace, called Pandemonium. There the high ranking angels assemble in council.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II</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ebate is held whether or not to attempt recovery of heaven.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third proposal is preferred, concerning an ancient prophecy of another world which was to be created, where the devils may seek to enact their revenge.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tan alone undertakes the voyage to find this world. He encounters Sin and Death, his offspring, guarding hell's gates. </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 unlocks the gate, and Satan embarks on his passage across the great gulf of chaos between heaven and hell, till he sights the new universe floating near the larger globe, which is heave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III</a:t>
            </a: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d sees Satan flying towards this world and foretells the success of his evil mission to tempt man.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d explains his purpose of grace and mercy toward man, but declares that justice must be met nonetheless.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s Son, who sits at his right hand, freely offers to sacrifice himself for man's salvation, causing the angels to celebrate in songs of praise. </a:t>
            </a:r>
            <a:endParaRPr b="0" lang="en-US" sz="2200" spc="-1" strike="noStrike">
              <a:solidFill>
                <a:srgbClr val="000000"/>
              </a:solidFill>
              <a:latin typeface="Arial"/>
            </a:endParaRPr>
          </a:p>
        </p:txBody>
      </p:sp>
      <p:sp>
        <p:nvSpPr>
          <p:cNvPr id="157"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nwhile Satan alights upon the outer shell of the new creation, where he finds an opening to the universe within.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flies down to the sun, upon which an angel, Uriel, stands guard. </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guised as a cherub, Satan pretends he has come to praise God's new creation, and thereby tricks the angel into showing him the way to man's home.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IV</a:t>
            </a:r>
            <a:endParaRPr b="1" lang="en-US" sz="3900" spc="-1" strike="noStrike">
              <a:solidFill>
                <a:srgbClr val="330066"/>
              </a:solidFill>
              <a:latin typeface="Arial"/>
            </a:endParaRPr>
          </a:p>
        </p:txBody>
      </p:sp>
      <p:sp>
        <p:nvSpPr>
          <p:cNvPr id="159"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ing atop Mt. Niphates, Satan experiences dissillusionment, but soon proceeds on his evil errand.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easily gains secret entrance to the Garden of Paradise.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onders at its beauty, and soon comes upon Adam and Eve, who excite great envy in him at their happy state.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overhears them speak of God's commandment that they should not eat the fruit of the Tree of Knowledge of Good and Evil under penalty of death, and thereby plots to cause them to transgress. </a:t>
            </a:r>
            <a:endParaRPr b="0" lang="en-US" sz="2000" spc="-1" strike="noStrike">
              <a:solidFill>
                <a:srgbClr val="000000"/>
              </a:solidFill>
              <a:latin typeface="Arial"/>
            </a:endParaRPr>
          </a:p>
        </p:txBody>
      </p:sp>
      <p:sp>
        <p:nvSpPr>
          <p:cNvPr id="160" name="PlaceHolder 3"/>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el, becoming suspicious, comes to warn Gabriel and his angels, who are guarding the gate of Paradise.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evening, two scouts sent by Gabriel find Satan whispering in the ear of Eve as she sleeps next to her husband.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outs apprehend and bring Satan to Gabriel who banishes him from Eden.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V</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morning, Eve relates to Adam a troublesome dream, and is comforted by him.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d sends the angel Raphael to visit the couple to warn them of their enemy.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ngel arrives and dines with them, then relates to them the history of Satan's fall: how jealousy against the Son of God led him to incite all those in his charge to rebel against God, and how one angel, Abdiel, resisted and remained faithful to Go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VI</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phael continues to relate how Michael was sent to lead the faithful angels into battle against Satan (then called Lucifer) and his army.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unded and in dissaray, Satan and his powers retreat. During the night they invent weapons resembling cannon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en, in the second day's fight, Michael's angels are confronted with these devilish devices, they become enraged and pull up the very mountains and hurl them at Satan's crew.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ut the war continues into the third day, when God sends Messiah, his Son, to end the war. Riding forth in his flaming chariot, Messiah drives the rebels out of heaven and down into hell.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VII</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aphael then relates to Adam how God sent his Son to create a new world and new creatures to fill the place left by the fallen angel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ix days of creation are described.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ook VIII</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am, desiring to extend the pleasurable visit with the angel, relates to Raphael what he remembers of his own creation, his first impressions of the world and its creatures, the Garden of Eden, and his first meeting and marriage to Ev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repeating his warnings to Adam, the angel depart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0T13:22:43Z</dcterms:created>
  <dc:creator>Leah Vanderwarker</dc:creator>
  <dc:description/>
  <dc:language>en-US</dc:language>
  <cp:lastModifiedBy>Leah Vanderwarker</cp:lastModifiedBy>
  <dcterms:modified xsi:type="dcterms:W3CDTF">2011-01-20T13:43:40Z</dcterms:modified>
  <cp:revision>3</cp:revision>
  <dc:subject/>
  <dc:title>Paradise Lost</dc:title>
</cp:coreProperties>
</file>