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B6B-5491-4A0B-A4B9-3E7C6D6D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746-5832-49B0-BD61-257E30A1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9A3-7D1F-4094-BBFC-CF730950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B0D-0524-47F9-B500-18AE55CF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2BC-FC3E-4A6B-BAEE-C891908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347-C5BA-476B-84F1-84538B59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0CE-AF63-48C4-8898-CE7CC756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D3B-92FD-4990-944D-A34FD47B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8EF-DAF9-4E59-9AD3-008711F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777-62BD-4FF8-B4B0-83649EBC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3AE-77AF-458A-A2D5-1DF10937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F09-2CC2-4E04-9668-514967F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0DA7-369B-442C-8902-306322842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Her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detective is able to solve a mystery that has all the other characters and the reader stumped, that's one good detectiv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36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Herrings in “The Can Only Hang You Onc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ack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689200" cy="355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10080" y="2057400"/>
            <a:ext cx="31687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othy’s inju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use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h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, Dark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0292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icture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752400"/>
            <a:ext cx="883908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ind the Ter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415880"/>
            <a:ext cx="8153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5256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Herring: False Cl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ve fiction writers often include red herring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urprise their read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169056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d herring is meant to draw the reader off the correct trail so that they will be surprised when their solution dead-ends and the true solution is reveal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56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think of a twist at the end of a movie, all the clues were there in order for the twist to make sen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ther false clues were there as well to keep you from guessing the twist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 clues add to the surprise of the reader, but they also give credit to the analytical skills of th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238752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58:57Z</dcterms:created>
  <dc:creator>Leah Vanderwarker</dc:creator>
  <dc:description/>
  <dc:language>en-US</dc:language>
  <cp:lastModifiedBy>Leah Vanderwarker</cp:lastModifiedBy>
  <dcterms:modified xsi:type="dcterms:W3CDTF">2012-11-02T14:13:47Z</dcterms:modified>
  <cp:revision>6</cp:revision>
  <dc:subject/>
  <dc:title>Red Herring</dc:title>
</cp:coreProperties>
</file>