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30A-49D7-4463-B608-1958D6A3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6E4-2137-46A9-8B8D-83A29B52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C098-392C-43D2-A356-A7001171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DDF-14EA-4E93-B356-BE0CCD29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3DA-341F-409E-B180-719E12E0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C211-0473-437E-A6DE-BC04D86E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858-674D-4D43-904E-5B32BC72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539-9089-4DE6-87F2-D15015E5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C2F-B121-437F-BC9D-491043A1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A5D-CBA7-4256-9E84-AEF08616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0CA-5DB6-4B3B-B7CD-E17358E7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07A-9461-45D6-A992-5DFB3661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585C-2689-4ED8-AFF2-209F08219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Her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detective is able to solve a mystery that has all the other characters and the reader stumped, that's one good detectiv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3360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 Herrings in “The Can Only Hang You Onc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Back D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7920" y="2743200"/>
            <a:ext cx="2689200" cy="3557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10080" y="2057400"/>
            <a:ext cx="316872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othy’s inju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used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ho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62520" y="7621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, Dark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02920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Picture"/>
          <p:cNvPicPr/>
          <p:nvPr/>
        </p:nvPicPr>
        <p:blipFill>
          <a:blip r:embed="rId1"/>
          <a:stretch/>
        </p:blipFill>
        <p:spPr>
          <a:xfrm>
            <a:off x="0" y="1065240"/>
            <a:ext cx="9144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752400"/>
            <a:ext cx="883908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ind the Ter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415880"/>
            <a:ext cx="81532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28800" y="5256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Herring: False Cl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ve fiction writers often include red herring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urprise their reader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14800" y="1690560"/>
            <a:ext cx="47242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d herring is meant to draw the reader off the correct trail so that they will be surprised when their solution dead-ends and the true solution is reveal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724280" y="228600"/>
            <a:ext cx="40561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think of a twist at the end of a movie, all the clues were there in order for the twist to make sens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other false clues were there as well to keep you from guessing the twist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se clues add to the surprise of the reader, but they also give credit to the analytical skills of the det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238752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2:58:57Z</dcterms:created>
  <dc:creator>Leah Vanderwarker</dc:creator>
  <dc:description/>
  <dc:language>en-US</dc:language>
  <cp:lastModifiedBy>Leah Vanderwarker</cp:lastModifiedBy>
  <dcterms:modified xsi:type="dcterms:W3CDTF">2012-11-02T14:13:47Z</dcterms:modified>
  <cp:revision>6</cp:revision>
  <dc:subject/>
  <dc:title>Red Herring</dc:title>
</cp:coreProperties>
</file>