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829-59AD-444B-94A6-EC65DC3C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2EE-A7B3-4437-9384-8580FAB8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7E3-F7E1-41D3-BD94-6AC9172B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E34-2AFC-4C54-A497-0B958C6A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7387-765D-4E64-918F-9617DCED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FF7D-F9FB-4142-8E72-74B969DB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042C-1208-401F-AEFC-A55F0F0C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D7E1-CE82-4212-87BE-83B7EB71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A63E-B5F6-4CDE-BB3F-2A19354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D5CB-A136-4ABB-B214-FC0433FE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E00-CE9B-442A-B486-A5E3F6DF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024-5104-4447-865F-4455329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7155-DF01-405A-972A-D0884B7D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14AC-307E-48C5-A010-29684B81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1357-15D3-4BDD-9605-6BF58C0E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382A-C5A5-44AE-8A7D-11DABAF1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31D8-54D9-4DE1-823F-AE542500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0CF-4790-4432-B23D-521A10B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073-6576-47EA-ACCA-411694B4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87A-EE38-42B1-B8A5-C83DDCF4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EF3-50F5-4241-A4A8-375E0422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388-3471-495F-8C3B-6B5AA055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A4A-95BD-4ABF-9589-5F3DD61C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F0B-325B-454F-AD6A-4DAE2B37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5B70-1CC5-4371-8096-40584AAF25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4924-F37E-4CC1-A793-4417DE78741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ge of Rea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4760"/>
            <a:ext cx="5984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1660-17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82548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London had been receiving a shift in population from the country to town.  It became a thriving city, yet it suffered two major disasters in rapid succession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865240"/>
            <a:ext cx="377532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g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665: sickness ran rapid through the c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,000 of London’s inhabitants were kill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56320" y="2865240"/>
            <a:ext cx="377496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666: Ju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the plague abated, fire broke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took 5 days to extinguis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left 2/3 of the population home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ffee Ho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652: The first Coffee Ho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ed in 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Here the middle and upper-class rubbed shoulders with writers and think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It provided a place where men could meet, talk, drink coffee, and sometimes conduct 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century several thousand coffee houses were in exist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2" descr="http://t3.gstatic.com/images?q=tbn:ANd9GcQCwLC3ISBSwWpRAu9n6KzeffkfYBffZgVgYWrkKJ6sNN8N3GBL"/>
          <p:cNvPicPr/>
          <p:nvPr/>
        </p:nvPicPr>
        <p:blipFill>
          <a:blip r:embed="rId1"/>
          <a:stretch/>
        </p:blipFill>
        <p:spPr>
          <a:xfrm>
            <a:off x="6477120" y="0"/>
            <a:ext cx="2104920" cy="21718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155520" y="-343080"/>
            <a:ext cx="1514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55520" y="-343080"/>
            <a:ext cx="1514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7" name="Picture 8" descr="http://t1.gstatic.com/images?q=tbn:ANd9GcThiu-eORRr51Ci2jfbP1m1LQBep5MBjAnw55PI47PMBXMUkKJd"/>
          <p:cNvPicPr/>
          <p:nvPr/>
        </p:nvPicPr>
        <p:blipFill>
          <a:blip r:embed="rId2"/>
          <a:stretch/>
        </p:blipFill>
        <p:spPr>
          <a:xfrm>
            <a:off x="0" y="0"/>
            <a:ext cx="30956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es in Litera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377676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040" y="2895120"/>
            <a:ext cx="377676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ve Sonn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lowery and ornate writing sty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y actors portrayed female charac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jor plays were Heroic Traged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01920" y="2057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52720" y="2835000"/>
            <a:ext cx="377820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tirical verses aimed at correcting people’s behavior in socie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eriodical essay was intended to be short and for the middle cl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resses played female 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estoration plays were licentious  and focused on multiple plots concerning infidelity and acting in ways that were unsuitable according to one’s station in lif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Middle Years: 1700-174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en Anne: 1702-171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ed without an he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rge I of Hanover, Germany: 1714-172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eat-Grandson of James 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d Stuart Blo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acceptable to Parlia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Protesta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oke German and spent most of his time in Germ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rge II: 1727-176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se in the Power of the Prime Minis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 the first two Georges, the country was in effect ruled by the ministr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gland’s Two Political Pa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g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vored reforms and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ferred a powerful parliament over a powerful monarc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ri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re opposed to ch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vored Royal power and the established Church of Englan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Whi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wielded the most power during the middle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favored the new mercantile middle class living in 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fostered trade and contributed to the growth of the cites and international 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se of the Middle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iddle class had begun to merge with landed gentry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ri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erns for wealth and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vement into a position of social domin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wth of the Working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obs opening i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tr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cto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these jobs were spurred with the invention of power-driven machine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would bring about the Industrial Revo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equality in the Distribution of Wealt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London especially, the inequality in the distribution of wealth was appall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streets the silks and brocades a powdered wigs, the gilded coaches and sedan chairs of the rich moved against a background of rags, filth, stench, and cr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rich went to plays and Italian operas while thousands lived in pov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ge of Reason in Euro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eneral intellectual and literary movement: Enlighten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nlightenment: characterized by Rationalis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tionalism: a philosophy the emphasized the role of reason rather than sensory experience or faith in answering basic questions of human exist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deal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tellectual Freed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reedom from prejudice and superstition in religion and politic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 in all Ages: Behavior often did not match ideal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Por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r Joshua Reynolds and Thomas Gainsborough tuned out elegant  portraits of prosperous ladies and gentle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86320" y="609480"/>
            <a:ext cx="46576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4105440" cy="5334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3198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Por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lliam Hogarth savagely satirized the wealthy and protested against the lot of the poor in paintings and graphic works such a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Rake’s Progres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81280" y="2009880"/>
            <a:ext cx="5562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Righ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lightenment had little effect on women’s righ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men were not usually educ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niel Defoe was ahead of his time when he suggested a method of improving the education of wo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Middle Class’s Influence on Literatu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wealth afforded them the luxury of reading for pleasure and they bought new boo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anted to read about people like themselves, so realistic novels became popu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ry Periodicals were aimed at coffee house audiences and were written to entertain and improve morals and man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ralist Rea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atre, a new type of moral comedy came to be known as Sentimental Comedy and helped to make the theatre respectable aga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onathan Swift: the greatest moralist of them 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tirical writer who exposed and ridiculed individual and social evils of his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ulliver’s Travel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argeted governmental and  personal hypocrisy and vi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ge of Reason in 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ish version of Rationalism: experience &amp; reason should be given equal place when examining the human con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ade the English less “Rational” than the French and other continental ver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of the most important writers of this period were opposed to the rationalist ideas of social progress and human perfecti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Age of Reason=The Neoclassical A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of the authors based their prose and poetry on class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ical here refers to Ancient Greece and R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ical writers are people like Homer, who wrote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lia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dyssey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Ovid wrote the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Annelid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 Age where people were concerned with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ners and mor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standing themsel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standing the immediate wor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standing their relationship with oth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he Age was influenced b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ohn Locke’s Essay Concerni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the Age was influenced b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ohn Locke’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ssay Concerning Human Understanding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690), which argued that “our business here is not to know all things, but those which concern our conduct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56320" y="2361960"/>
            <a:ext cx="3774960" cy="372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t1.gstatic.com/images?q=tbn:ANd9GcTVbUW7xTr2fYhElUnU3teeXiddyEEaMK_skYs_0zVubmGrcNAmqw"/>
          <p:cNvPicPr/>
          <p:nvPr/>
        </p:nvPicPr>
        <p:blipFill>
          <a:blip r:embed="rId2"/>
          <a:stretch/>
        </p:blipFill>
        <p:spPr>
          <a:xfrm>
            <a:off x="4724280" y="1546200"/>
            <a:ext cx="41054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Age was also stimulated by great Scientis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r Isaac Newt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rincip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1687) first set forth the laws of gravi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was a period that advocated the use of scientific method to test old theories and to develop new knowledg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56320" y="2361960"/>
            <a:ext cx="3774960" cy="3724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t0.gstatic.com/images?q=tbn:ANd9GcRMFH7Era_H-9iYF7e4TidWTR5GjxnPWbDSiXD5uCKELau-TKvP"/>
          <p:cNvPicPr/>
          <p:nvPr/>
        </p:nvPicPr>
        <p:blipFill>
          <a:blip r:embed="rId2"/>
          <a:stretch/>
        </p:blipFill>
        <p:spPr>
          <a:xfrm>
            <a:off x="4724280" y="1447920"/>
            <a:ext cx="38214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arly Years, 1660-17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2361960"/>
            <a:ext cx="2847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storation of the Monarchy with:   King Charles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2" descr="http://t2.gstatic.com/images?q=tbn:ANd9GcTVFXvV8bUUju4i859wlv6iJO1zQx8R-PqUXaw8b5AERgzUFwEpWg"/>
          <p:cNvPicPr/>
          <p:nvPr/>
        </p:nvPicPr>
        <p:blipFill>
          <a:blip r:embed="rId1"/>
          <a:stretch/>
        </p:blipFill>
        <p:spPr>
          <a:xfrm>
            <a:off x="4267080" y="1219320"/>
            <a:ext cx="35053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Restoration brought many changes to England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e Anglican Church was once again the established church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harles II reopened theatres, which that puritans had closed, and even sponsored a troop of actor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1662: Charles II chartered the Royal Societ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made scientific activities and investigations offi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ociety required the use of the scientific method in all of its investigati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quired that reports be written in clear, simple pr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10:35Z</dcterms:created>
  <dc:creator>Leah</dc:creator>
  <dc:description/>
  <dc:language>en-US</dc:language>
  <cp:lastModifiedBy>Leah Vanderwarker</cp:lastModifiedBy>
  <dcterms:modified xsi:type="dcterms:W3CDTF">2011-02-03T19:58:34Z</dcterms:modified>
  <cp:revision>21</cp:revision>
  <dc:subject/>
  <dc:title>The Age of Reason</dc:title>
</cp:coreProperties>
</file>