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6F64-68DE-4DEE-93EA-4A702B0E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4986-D123-413F-8032-FC6E48A3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2DF7-8102-43A6-A62F-06130CBC2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2945-9BE4-48A7-A7E5-B4360298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ED8D-29BD-4A48-9E23-1CC686D9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7377-1AB1-4A5F-91FF-EAE74FC7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EF35-FC90-4946-B0BE-A1FD3784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8AB7-09A0-4EDB-BCF7-5F54AA3D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76FC-2734-4F0D-AE94-98FDE1B2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2B37-57E9-4E2E-BAF5-00E5E7A6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EDB2-1631-4F87-9E1A-9D1527C2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0BFC-AD21-4F6C-AD93-2E35950C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B0B6-C24F-4AC9-9D9A-AF7314D0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55E9-6601-46AF-9F98-216E985F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BBD5-1E8A-49ED-9D7B-5231A299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5FD2-F978-4CFB-95C5-047DAE027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04B9-7082-4EF8-BDC6-8408CE19B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1F3A-66CC-4232-88DA-BE6B99D0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16BC-21C7-42D9-9439-C5DC6BA0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2964-53FB-4036-8DF0-293EE85B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BEC3-37C1-4001-B5EC-9AB887A2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60CD-8405-4A05-A275-843768BD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8A6C-2014-4F9D-85F6-8DE9DEF1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14F7-AC9E-4F53-AABF-57A4B807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CC97-3D64-46E7-BC78-86EEB74FC5B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AF44-41F2-4267-9E5C-3292901C858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Age of Reas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692360" y="4244760"/>
            <a:ext cx="598464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1660-178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825480"/>
            <a:ext cx="792468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London had been receiving a shift in population from the country to town.  It became a thriving city, yet it suffered two major disasters in rapid succession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7720" y="2865240"/>
            <a:ext cx="3775320" cy="32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g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665: sickness ran rapid through the c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70,000 of London’s inhabitants were kill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756320" y="2865240"/>
            <a:ext cx="3774960" cy="32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666: Ju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en the plague abated, fire broke ou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took 5 days to extinguis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t left 2/3 of the population homel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1916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ffee Hou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652: The first Coffee Hous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ened in Lond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Here the middle and upper-class rubbed shoulders with writers and think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It provided a place where men could meet, talk, drink coffee, and sometimes conduct busin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the end of the century several thousand coffee houses were in exist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Picture 2" descr="http://t3.gstatic.com/images?q=tbn:ANd9GcQCwLC3ISBSwWpRAu9n6KzeffkfYBffZgVgYWrkKJ6sNN8N3GBL"/>
          <p:cNvPicPr/>
          <p:nvPr/>
        </p:nvPicPr>
        <p:blipFill>
          <a:blip r:embed="rId1"/>
          <a:stretch/>
        </p:blipFill>
        <p:spPr>
          <a:xfrm>
            <a:off x="6477120" y="0"/>
            <a:ext cx="2104920" cy="217188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4"/>
          <p:cNvSpPr/>
          <p:nvPr/>
        </p:nvSpPr>
        <p:spPr>
          <a:xfrm>
            <a:off x="155520" y="-343080"/>
            <a:ext cx="15145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155520" y="-343080"/>
            <a:ext cx="15145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pic>
        <p:nvPicPr>
          <p:cNvPr id="127" name="Picture 8" descr="http://t1.gstatic.com/images?q=tbn:ANd9GcThiu-eORRr51Ci2jfbP1m1LQBep5MBjAnw55PI47PMBXMUkKJd"/>
          <p:cNvPicPr/>
          <p:nvPr/>
        </p:nvPicPr>
        <p:blipFill>
          <a:blip r:embed="rId2"/>
          <a:stretch/>
        </p:blipFill>
        <p:spPr>
          <a:xfrm>
            <a:off x="0" y="0"/>
            <a:ext cx="309564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nges in Litera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4920" y="2057040"/>
            <a:ext cx="3776760" cy="6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Ol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14040" y="2895120"/>
            <a:ext cx="3776760" cy="32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ove Sonne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lowery and ornate writing sty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oy actors portrayed female charact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jor plays were Heroic Traged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01920" y="20570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e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752720" y="2835000"/>
            <a:ext cx="3778200" cy="32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tirical verses aimed at correcting people’s behavior in socie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periodical essay was intended to be short and for the middle cla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tresses played female ro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Restoration plays were licentious  and focused on multiple plots concerning infidelity and acting in ways that were unsuitable according to one’s station in lif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Middle Years: 1700-1744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een Anne: 1702-171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ed without an hei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orge I of Hanover, Germany: 1714-172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reat-Grandson of James 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ad Stuart Bloo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s acceptable to Parlia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s Protesta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poke German and spent most of his time in German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orge II: 1727-176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ise in the Power of the Prime Ministe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 the first two Georges, the country was in effect ruled by the ministr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gland’s Two Political Part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higs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vored reforms and progr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ferred a powerful parliament over a powerful monarch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ories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re opposed to chan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vored Royal power and the established Church of England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Whig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y wielded the most power during the middle yea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y favored the new mercantile middle class living in Lond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y fostered trade and contributed to the growth of the cites and international commer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ise of the Middle Cla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middle class had begun to merge with landed gentry through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rri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cerns for wealth and proper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vement into a position of social domina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wth of the Working Cla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obs opening in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struc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actor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 these jobs were spurred with the invention of power-driven machine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would bring about the Industrial Revolu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equality in the Distribution of Wealth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London especially, the inequality in the distribution of wealth was appalling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 the streets the silks and brocades a powdered wigs, the gilded coaches and sedan chairs of the rich moved against a background of rags, filth, stench, and crim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rich went to plays and Italian operas while thousands lived in pover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Age of Reason in Europ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General intellectual and literary movement: Enlightenment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Enlightenment: characterized by Rationalism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ationalism: a philosophy the emphasized the role of reason rather than sensory experience or faith in answering basic questions of human existen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Ideals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Intellectual Freedom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Freedom from prejudice and superstition in religion and politic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As in all Ages: Behavior often did not match ideal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lit Portra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r Joshua Reynolds and Thomas Gainsborough tuned out elegant  portraits of prosperous ladies and gentlem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486320" y="609480"/>
            <a:ext cx="465768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4105440" cy="53341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257800" y="685800"/>
            <a:ext cx="31989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lit Portra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2819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lliam Hogarth savagely satirized the wealthy and protested against the lot of the poor in paintings and graphic works such as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 Rake’s Progres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581280" y="2009880"/>
            <a:ext cx="5562720" cy="49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77724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men’s Righ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lightenment had little effect on women’s righ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men were not usually educa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niel Defoe was ahead of his time when he suggested a method of improving the education of wo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Middle Class’s Influence on Literatur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w wealth afforded them the luxury of reading for pleasure and they bought new boo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wanted to read about people like themselves, so realistic novels became popul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terary Periodicals were aimed at coffee house audiences and were written to entertain and improve morals and mann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ralist Reac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Theatre, a new type of moral comedy came to be known as Sentimental Comedy and helped to make the theatre respectable agai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onathan Swift: the greatest moralist of them a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atirical writer who exposed and ridiculed individual and social evils of his da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Gulliver’s Travel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argeted governmental and  personal hypocrisy and vic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Age of Reason in Engl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glish version of Rationalism: experience &amp; reason should be given equal place when examining the human cond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made the English less “Rational” than the French and other continental vers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ny of the most important writers of this period were opposed to the rationalist ideas of social progress and human perfecti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Age of Reason=The Neoclassical Ag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y of the authors based their prose and poetry on classical mode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ssical here refers to Ancient Greece and R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ssical writers are people like Homer, who wrote th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lia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th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Odyssey,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Ovid wrote the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Annelid.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n Age where people were concerned with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nners and mora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derstanding themselv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derstanding the immediate worl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derstanding their relationship with other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 the Age was influenced by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ohn Locke’s Essay Concerning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d the Age was influenced by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ohn Locke’s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Essay Concerning Human Understanding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690), which argued that “our business here is not to know all things, but those which concern our conduct.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756320" y="2361960"/>
            <a:ext cx="3774960" cy="3724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http://t1.gstatic.com/images?q=tbn:ANd9GcTVbUW7xTr2fYhElUnU3teeXiddyEEaMK_skYs_0zVubmGrcNAmqw"/>
          <p:cNvPicPr/>
          <p:nvPr/>
        </p:nvPicPr>
        <p:blipFill>
          <a:blip r:embed="rId2"/>
          <a:stretch/>
        </p:blipFill>
        <p:spPr>
          <a:xfrm>
            <a:off x="4724280" y="1546200"/>
            <a:ext cx="410544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Age was also stimulated by great Scientis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r Isaac Newton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Principa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(1687) first set forth the laws of gravi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was a period that advocated the use of scientific method to test old theories and to develop new knowledg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756320" y="2361960"/>
            <a:ext cx="3774960" cy="3724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http://t0.gstatic.com/images?q=tbn:ANd9GcRMFH7Era_H-9iYF7e4TidWTR5GjxnPWbDSiXD5uCKELau-TKvP"/>
          <p:cNvPicPr/>
          <p:nvPr/>
        </p:nvPicPr>
        <p:blipFill>
          <a:blip r:embed="rId2"/>
          <a:stretch/>
        </p:blipFill>
        <p:spPr>
          <a:xfrm>
            <a:off x="4724280" y="1447920"/>
            <a:ext cx="382140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arly Years, 1660-17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7720" y="2361960"/>
            <a:ext cx="2847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Restoration of the Monarchy with:   King Charles I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2" descr="http://t2.gstatic.com/images?q=tbn:ANd9GcTVFXvV8bUUju4i859wlv6iJO1zQx8R-PqUXaw8b5AERgzUFwEpWg"/>
          <p:cNvPicPr/>
          <p:nvPr/>
        </p:nvPicPr>
        <p:blipFill>
          <a:blip r:embed="rId1"/>
          <a:stretch/>
        </p:blipFill>
        <p:spPr>
          <a:xfrm>
            <a:off x="4267080" y="1219320"/>
            <a:ext cx="350532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Restoration brought many changes to England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The Anglican Church was once again the established church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Charles II reopened theatres, which that puritans had closed, and even sponsored a troop of actors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1662: Charles II chartered the Royal Society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s made scientific activities and investigations offici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Society required the use of the scientific method in all of its investigation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quired that reports be written in clear, simple pros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03:10:35Z</dcterms:created>
  <dc:creator>Leah</dc:creator>
  <dc:description/>
  <dc:language>en-US</dc:language>
  <cp:lastModifiedBy>Leah Vanderwarker</cp:lastModifiedBy>
  <dcterms:modified xsi:type="dcterms:W3CDTF">2011-02-03T19:58:34Z</dcterms:modified>
  <cp:revision>21</cp:revision>
  <dc:subject/>
  <dc:title>The Age of Reason</dc:title>
</cp:coreProperties>
</file>