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D6B3-D772-4449-B70B-082D672A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69D-375D-449A-8F7D-429015AF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21A-1110-4A4C-A2AC-1C007B9A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0CCE-3FF9-46EB-ADEA-F6E7EB48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01E-D234-4270-BABE-1B4BFD8F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DB17-C8EE-4605-8A91-EDF035CF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0476-CBA1-4C30-A71C-198B2CC1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B17C-4811-405D-AE24-DB16B20F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D76-11DA-4EF2-B938-83BCF02A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F9A-91DF-4876-A36B-771C269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765-E1FC-4974-AA3E-570ABBA8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A6E-331B-4D2C-A5EF-EF3C82C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A80C-8055-459A-B704-AEF316904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1337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Don't Know much About Art," by Simon Br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Picture"/>
          <p:cNvPicPr/>
          <p:nvPr/>
        </p:nvPicPr>
        <p:blipFill>
          <a:blip r:embed="rId1"/>
          <a:stretch/>
        </p:blipFill>
        <p:spPr>
          <a:xfrm>
            <a:off x="4800600" y="228600"/>
            <a:ext cx="2963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79246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villain, in this case Prince John, is more evil than that person stealing from them, the petty thief becomes the hero in our twisted sense of justi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ANd9GcShqY1SEp8A13f5oxpTU-39iImUCUmlTgw1bbb9ngIH2pRpSFfk"/>
          <p:cNvPicPr/>
          <p:nvPr/>
        </p:nvPicPr>
        <p:blipFill>
          <a:blip r:embed="rId1"/>
          <a:stretch/>
        </p:blipFill>
        <p:spPr>
          <a:xfrm>
            <a:off x="1752480" y="2286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ANd9GcQq8Gu7EHn9wB1DNIipLNyp0eYqhgU3MFPWJzoW18j9EHNDonYd"/>
          <p:cNvPicPr/>
          <p:nvPr/>
        </p:nvPicPr>
        <p:blipFill>
          <a:blip r:embed="rId1"/>
          <a:stretch/>
        </p:blipFill>
        <p:spPr>
          <a:xfrm>
            <a:off x="685800" y="436680"/>
            <a:ext cx="807732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stealing is wrong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your stealing from an undeserving, evil villain for a good caus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to right their wro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justice outside of the law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ral comment is that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 underdog doling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eupp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replace legal justice so that the audience knows that the bad guy got what they deserved. 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omeuppance2"/>
          <p:cNvPicPr/>
          <p:nvPr/>
        </p:nvPicPr>
        <p:blipFill>
          <a:blip r:embed="rId1"/>
          <a:stretch/>
        </p:blipFill>
        <p:spPr>
          <a:xfrm>
            <a:off x="4411800" y="1600200"/>
            <a:ext cx="4394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re are the basic qualifications for the Caper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ANd9GcTLiw4o2Qx69dHov54MzrpAzttaMIpWgI-1Hbwa1hSYetsHUF9tXg"/>
          <p:cNvPicPr/>
          <p:nvPr/>
        </p:nvPicPr>
        <p:blipFill>
          <a:blip r:embed="rId1"/>
          <a:stretch/>
        </p:blipFill>
        <p:spPr>
          <a:xfrm>
            <a:off x="2525760" y="1676520"/>
            <a:ext cx="366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he normal villain (petty thief) is the he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Nd9GcRlnVuPLtuDiEjwZUUDPQiOJ2TZADS-vUURgJG3yB3fvWM1zeRSLQ"/>
          <p:cNvPicPr/>
          <p:nvPr/>
        </p:nvPicPr>
        <p:blipFill>
          <a:blip r:embed="rId1"/>
          <a:stretch/>
        </p:blipFill>
        <p:spPr>
          <a:xfrm>
            <a:off x="1257480" y="17780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Nd9GcRzG73dfTzbRkXLIkDw9vhqCcJeGbq8FmSUIIrv7ZcbtEuntpfDww"/>
          <p:cNvPicPr/>
          <p:nvPr/>
        </p:nvPicPr>
        <p:blipFill>
          <a:blip r:embed="rId2"/>
          <a:stretch/>
        </p:blipFill>
        <p:spPr>
          <a:xfrm>
            <a:off x="5433840" y="17683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9hrWkiSFJlGSnPzTxVA9z_HW1KCk1kJmcUP1Yp4vhl62Fa185"/>
          <p:cNvPicPr/>
          <p:nvPr/>
        </p:nvPicPr>
        <p:blipFill>
          <a:blip r:embed="rId3"/>
          <a:stretch/>
        </p:blipFill>
        <p:spPr>
          <a:xfrm>
            <a:off x="1166760" y="41608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Nd9GcTzH_dKnRmXMngp6x9RKL0nLyXkpNEi6HP66VWqMgFrmxWb0mAd8w"/>
          <p:cNvPicPr/>
          <p:nvPr/>
        </p:nvPicPr>
        <p:blipFill>
          <a:blip r:embed="rId4"/>
          <a:stretch/>
        </p:blipFill>
        <p:spPr>
          <a:xfrm>
            <a:off x="5595840" y="39607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The crime is theft, not murder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hard to idealize a murder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Nd9GcTJWMQeMeiEOp5ezBYzgN11-MihTkJ8nHOJviAw0szhMq-I7vzd8A"/>
          <p:cNvPicPr/>
          <p:nvPr/>
        </p:nvPicPr>
        <p:blipFill>
          <a:blip r:embed="rId1"/>
          <a:stretch/>
        </p:blipFill>
        <p:spPr>
          <a:xfrm>
            <a:off x="5319720" y="184464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ANd9GcTYFQFFAJlrv9SD9Ezkt02RLlKN0CWlsOgeCVNN2Yg7Qiy07TcH"/>
          <p:cNvPicPr/>
          <p:nvPr/>
        </p:nvPicPr>
        <p:blipFill>
          <a:blip r:embed="rId2"/>
          <a:stretch/>
        </p:blipFill>
        <p:spPr>
          <a:xfrm>
            <a:off x="5638680" y="3733920"/>
            <a:ext cx="1900440" cy="291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ANd9GcRWbwwWZY6EAiqbr_iqPutr_my73kJ76-0iOl14CQXXEIiAAM-AdA"/>
          <p:cNvPicPr/>
          <p:nvPr/>
        </p:nvPicPr>
        <p:blipFill>
          <a:blip r:embed="rId3"/>
          <a:stretch/>
        </p:blipFill>
        <p:spPr>
          <a:xfrm>
            <a:off x="304920" y="3505320"/>
            <a:ext cx="4076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There is a righteous pursuer who may or may not catch the thief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, the righteous pursuer can identify with and respect the thief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Nd9GcTehkfUCGVJXzPfrlWt6fBlCzjaJGSRwqEf94GZ2VZ7DhZ_UQ4T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ANd9GcTlB-MUoafhUiHOOUb07HoHzNVoj5o4q-Sdh1Ue9neGC6OC7Gy8"/>
          <p:cNvPicPr/>
          <p:nvPr/>
        </p:nvPicPr>
        <p:blipFill>
          <a:blip r:embed="rId2"/>
          <a:stretch/>
        </p:blipFill>
        <p:spPr>
          <a:xfrm>
            <a:off x="5105520" y="1676520"/>
            <a:ext cx="34052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The thief is not an evil masterm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ay be smart, but it's the down to earth quality that helps the audience connect with the th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ANd9GcT8IjK4FxgHKAfHBow_2WHS8iIYIIfb9m1E31hjWIzHqX36eqWj"/>
          <p:cNvPicPr/>
          <p:nvPr/>
        </p:nvPicPr>
        <p:blipFill>
          <a:blip r:embed="rId1"/>
          <a:stretch/>
        </p:blipFill>
        <p:spPr>
          <a:xfrm>
            <a:off x="1371600" y="3048120"/>
            <a:ext cx="640080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he focus of the story is how the thief will get in and out successfully, not on how the righteous pursuer will catch them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ANd9GcSDvh6w04jZD4CJpf7_AP1BKmn4A1fVbd9tPoQIXyJUAr-byxwkPw"/>
          <p:cNvPicPr/>
          <p:nvPr/>
        </p:nvPicPr>
        <p:blipFill>
          <a:blip r:embed="rId1"/>
          <a:stretch/>
        </p:blipFill>
        <p:spPr>
          <a:xfrm>
            <a:off x="380880" y="3048120"/>
            <a:ext cx="3892680" cy="2200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ANd9GcTlVRCjeSgm739pgnYvWp1CqTcX3G-LCgY2pVUUSAzG4JfoO4fKtA"/>
          <p:cNvPicPr/>
          <p:nvPr/>
        </p:nvPicPr>
        <p:blipFill>
          <a:blip r:embed="rId2"/>
          <a:stretch/>
        </p:blipFill>
        <p:spPr>
          <a:xfrm>
            <a:off x="4876920" y="3048120"/>
            <a:ext cx="37843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've ever watched a movie where one thief steals from an even worse thief, you've watched a cap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icture"/>
          <p:cNvPicPr/>
          <p:nvPr/>
        </p:nvPicPr>
        <p:blipFill>
          <a:blip r:embed="rId1"/>
          <a:stretch/>
        </p:blipFill>
        <p:spPr>
          <a:xfrm>
            <a:off x="2971800" y="3276720"/>
            <a:ext cx="317484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The thief is rarely harmed when their plans are foiled, just a bit of wounded pride at most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Nd9GcT50dltAIznpH1aeoe98R9lqzMKDVFbtlXZJ66sDxDB6poVBTeUUA"/>
          <p:cNvPicPr/>
          <p:nvPr/>
        </p:nvPicPr>
        <p:blipFill>
          <a:blip r:embed="rId1"/>
          <a:stretch/>
        </p:blipFill>
        <p:spPr>
          <a:xfrm>
            <a:off x="457200" y="2079720"/>
            <a:ext cx="4267080" cy="3767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ANd9GcTNtuPKfgk7X7bAe3x_060mZpXVLpI8VlMvgnL8yedWjUcYHRb_"/>
          <p:cNvPicPr/>
          <p:nvPr/>
        </p:nvPicPr>
        <p:blipFill>
          <a:blip r:embed="rId2"/>
          <a:stretch/>
        </p:blipFill>
        <p:spPr>
          <a:xfrm>
            <a:off x="4724280" y="2335320"/>
            <a:ext cx="441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The Character is charming, clever, and witty so that the audience will like him/her more than the worse villain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ANd9GcTovZ8EIJOFJT_mlFjgvTQbIpcR5kdN-6NgkhUFu_YUkYmTX6Od8Q"/>
          <p:cNvPicPr/>
          <p:nvPr/>
        </p:nvPicPr>
        <p:blipFill>
          <a:blip r:embed="rId1"/>
          <a:stretch/>
        </p:blipFill>
        <p:spPr>
          <a:xfrm>
            <a:off x="380880" y="2732040"/>
            <a:ext cx="4114800" cy="2303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ANd9GcRa1hWH8_0EZifg6BH6BjYTEuPXD1_ItOvV1m2G5T2GDN6e3BzwOA"/>
          <p:cNvPicPr/>
          <p:nvPr/>
        </p:nvPicPr>
        <p:blipFill>
          <a:blip r:embed="rId2"/>
          <a:stretch/>
        </p:blipFill>
        <p:spPr>
          <a:xfrm>
            <a:off x="5334120" y="2514600"/>
            <a:ext cx="27828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Don't Know much About Art," by Simon Br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icture"/>
          <p:cNvPicPr/>
          <p:nvPr/>
        </p:nvPicPr>
        <p:blipFill>
          <a:blip r:embed="rId1"/>
          <a:stretch/>
        </p:blipFill>
        <p:spPr>
          <a:xfrm>
            <a:off x="2438280" y="1447920"/>
            <a:ext cx="4113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Gorse: narrator, petty th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ly Clinton: thief who Gorse tried to drive to the airport, but ran out of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Loxton: employer, private school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. Depaldo: the f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d Harbinger: Owner of Harbinger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how is "Don't Know Much About Art" a caper?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me count the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ANd9GcRXx7vp0TAgs0cw0fC14kggGtUXyJIT6ZJFI7nTfD9sYml0dw2h9Q"/>
          <p:cNvPicPr/>
          <p:nvPr/>
        </p:nvPicPr>
        <p:blipFill>
          <a:blip r:embed="rId1"/>
          <a:stretch/>
        </p:blipFill>
        <p:spPr>
          <a:xfrm>
            <a:off x="1523880" y="2286000"/>
            <a:ext cx="629604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The normal villain (petty thief) is the hero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story, Billy Gorse is the hero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's a petty criminal and not a very successful one at that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ANd9GcSuD9XiX52D4mTNsA0fpoAhV66F50cpBc_wZ3by0kup2dPQcb8YTA"/>
          <p:cNvPicPr/>
          <p:nvPr/>
        </p:nvPicPr>
        <p:blipFill>
          <a:blip r:embed="rId1"/>
          <a:stretch/>
        </p:blipFill>
        <p:spPr>
          <a:xfrm>
            <a:off x="4191120" y="2427120"/>
            <a:ext cx="4495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0388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ooks du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 pro-wres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eotypical looking dumb vil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ANd9GcSuD9XiX52D4mTNsA0fpoAhV66F50cpBc_wZ3by0kup2dPQcb8YTA"/>
          <p:cNvPicPr/>
          <p:nvPr/>
        </p:nvPicPr>
        <p:blipFill>
          <a:blip r:embed="rId1"/>
          <a:stretch/>
        </p:blipFill>
        <p:spPr>
          <a:xfrm>
            <a:off x="4343400" y="1752480"/>
            <a:ext cx="428616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looks dumber than he is, but he’s also done some dumb thing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looms, threatens, and he’s made silly mistak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ve the wrong people away in the getaway c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ally returned stolen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te his address on a ransom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ANd9GcRQYnYSH1Gim4FquohqpXInu6VWegAMdaONfocVgfNM6hW3FmrcdQ"/>
          <p:cNvPicPr/>
          <p:nvPr/>
        </p:nvPicPr>
        <p:blipFill>
          <a:blip r:embed="rId1"/>
          <a:stretch/>
        </p:blipFill>
        <p:spPr>
          <a:xfrm>
            <a:off x="4572000" y="2241720"/>
            <a:ext cx="426708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t, he is less of a criminal than Mr. Loxton and Lord Harb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't help but cheer for him as he out-smarts the two crusty, know-it-all blue-bl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ANd9GcQGIRUjkZI8d80Z-IrJ83p38qkdZ8QhHVOMpWa6i1dwLx_ql-Uz"/>
          <p:cNvPicPr/>
          <p:nvPr/>
        </p:nvPicPr>
        <p:blipFill>
          <a:blip r:embed="rId1"/>
          <a:stretch/>
        </p:blipFill>
        <p:spPr>
          <a:xfrm>
            <a:off x="1752480" y="2963880"/>
            <a:ext cx="550080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The crime is theft, not murder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is hired to steal a painting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e’s still a good gu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tells us that he won'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murder for h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ug old lad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his crimes seem pretty harmles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ides, what's the harm in stealing a old painting from a bunch of rich fol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Picture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There is a righteous pursuer who may or may not catch the thief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and no on this 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police man or private investigator pursuing Bill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Billy becomes the righteous pursuer when he realizes that he is being set up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then the one who must pursue Mr. Loxton and the man he was speaking to in order for himself to survive this deal.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The thief is not an evil mastermind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y is no evil mastermind; but he isn't as daft as he first portrayed himself to be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escribes himself as a type of brainless, blunt object to be used to mindless tasks onl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t he manages to have the painting handed to him as he goes out the door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. The focus of the story is how the thief will get in and out successfully, not on how the righteous pursuer will catch the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ory, as told by Billy himself, focuses on how he could possibly steal this painting, or at least survive once he stole the painting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success is his ultimate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. The thief is rarely harmed when their plans are foiled, just a bit of wounded pride at most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y and Lord Harbinger are not harmed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ly seemingly embarrasses himself in front of Lord Harbinger, the other guests, and the staff as the painting falls out of his unzipped suitcase as he walks down the stair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rd Harbinger is humiliated in front of his guests as he tries to cover up the insurance sc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ortunately, Mr. Loxton gets caught up in his own bombing scheme and dies while trying to drive the bomb-rigged car away from Harbinger H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. The Character is charming, clever, and witty so that the audience will like him/her more than the worse vill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's not to love about Billy's self deprecating humor?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icture"/>
          <p:cNvPicPr/>
          <p:nvPr/>
        </p:nvPicPr>
        <p:blipFill>
          <a:blip r:embed="rId1"/>
          <a:stretch/>
        </p:blipFill>
        <p:spPr>
          <a:xfrm>
            <a:off x="1681200" y="228600"/>
            <a:ext cx="63961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criminal becomes a thieving hero, you have  yourself a caper.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ANd9GcSQWjPNJo875XeMEdq9i-05mgf-7SgVAVj1khLWmzvh0ORFQcj3DA"/>
          <p:cNvPicPr/>
          <p:nvPr/>
        </p:nvPicPr>
        <p:blipFill>
          <a:blip r:embed="rId1"/>
          <a:stretch/>
        </p:blipFill>
        <p:spPr>
          <a:xfrm>
            <a:off x="3048120" y="2362320"/>
            <a:ext cx="294804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oughout history writer's and audiences have had a soft spot for the criminal 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 major interest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theft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 criminal will get a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justice will be ser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is formula, the moral line takes a quite flexible view of justi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QT803cIuvb_vcBibJztTLpPZbT764Tz7M9sTko0Mp9Kj_lAjuc"/>
          <p:cNvPicPr/>
          <p:nvPr/>
        </p:nvPicPr>
        <p:blipFill>
          <a:blip r:embed="rId1"/>
          <a:stretch/>
        </p:blipFill>
        <p:spPr>
          <a:xfrm>
            <a:off x="1981080" y="1600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e Robin Hood for instance.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ANd9GcThoXDszN3BPxzleXqIybzW8tKpRl8GU_MVV3u6iAoGtTn4lPowhA"/>
          <p:cNvPicPr/>
          <p:nvPr/>
        </p:nvPicPr>
        <p:blipFill>
          <a:blip r:embed="rId1"/>
          <a:stretch/>
        </p:blipFill>
        <p:spPr>
          <a:xfrm>
            <a:off x="2209680" y="1371600"/>
            <a:ext cx="3884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ly stealing is wr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s it wrong if the government is failing the people through the over taxation of an illegitimate ruler?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ANd9GcTas80P2mG7fXcQEGI1DTMBP5GJggALnofVOFsJXhMQJv3mASy_fg"/>
          <p:cNvPicPr/>
          <p:nvPr/>
        </p:nvPicPr>
        <p:blipFill>
          <a:blip r:embed="rId1"/>
          <a:stretch/>
        </p:blipFill>
        <p:spPr>
          <a:xfrm>
            <a:off x="4432320" y="1371600"/>
            <a:ext cx="4248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8:00:18Z</dcterms:created>
  <dc:creator>Leah Vanderwarker</dc:creator>
  <dc:description/>
  <dc:language>en-US</dc:language>
  <cp:lastModifiedBy>Leah Vanderwarker</cp:lastModifiedBy>
  <dcterms:modified xsi:type="dcterms:W3CDTF">2013-10-18T16:38:27Z</dcterms:modified>
  <cp:revision>25</cp:revision>
  <dc:subject/>
  <dc:title>The Caper</dc:title>
</cp:coreProperties>
</file>