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9E2-5893-43AF-B591-2A8A3844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CEF-D1DB-4298-9A73-857C4B05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16B-EA74-4B60-B904-4A59FB3A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55A-3DB7-4598-9A9C-B6756D4C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C3A-B3BD-41BA-BB14-30BD065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701-82D6-4E2D-B101-A1AF5135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76F-7FF3-499B-AC47-52AE59F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C14-7598-4469-970D-450B16B8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524-FE9D-4477-A3A2-7469B186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F3-1896-4D61-A764-9C5D77F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876-684F-4135-A115-C5673DC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BB5-F9C2-4B84-B858-59FCFCA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B5C-8D72-4763-8AF5-C1BCC932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337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Don't Know much About Art," by Simon Br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icture"/>
          <p:cNvPicPr/>
          <p:nvPr/>
        </p:nvPicPr>
        <p:blipFill>
          <a:blip r:embed="rId1"/>
          <a:stretch/>
        </p:blipFill>
        <p:spPr>
          <a:xfrm>
            <a:off x="4800600" y="228600"/>
            <a:ext cx="2963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79246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villain, in this case Prince John, is more evil than that person stealing from them, the petty thief becomes the hero in our twisted sense of just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ANd9GcShqY1SEp8A13f5oxpTU-39iImUCUmlTgw1bbb9ngIH2pRpSFfk"/>
          <p:cNvPicPr/>
          <p:nvPr/>
        </p:nvPicPr>
        <p:blipFill>
          <a:blip r:embed="rId1"/>
          <a:stretch/>
        </p:blipFill>
        <p:spPr>
          <a:xfrm>
            <a:off x="17524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q8Gu7EHn9wB1DNIipLNyp0eYqhgU3MFPWJzoW18j9EHNDonYd"/>
          <p:cNvPicPr/>
          <p:nvPr/>
        </p:nvPicPr>
        <p:blipFill>
          <a:blip r:embed="rId1"/>
          <a:stretch/>
        </p:blipFill>
        <p:spPr>
          <a:xfrm>
            <a:off x="685800" y="436680"/>
            <a:ext cx="807732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stealing is wrong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your stealing from an undeserving, evil villain for a good ca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o right their wro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justice outside of the law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ral comment is that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 underdog doling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upp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replace legal justice so that the audience knows that the bad guy got what they deserved.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omeuppance2"/>
          <p:cNvPicPr/>
          <p:nvPr/>
        </p:nvPicPr>
        <p:blipFill>
          <a:blip r:embed="rId1"/>
          <a:stretch/>
        </p:blipFill>
        <p:spPr>
          <a:xfrm>
            <a:off x="4411800" y="1600200"/>
            <a:ext cx="4394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are the basic qualifications for the Cap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Nd9GcTLiw4o2Qx69dHov54MzrpAzttaMIpWgI-1Hbwa1hSYetsHUF9tXg"/>
          <p:cNvPicPr/>
          <p:nvPr/>
        </p:nvPicPr>
        <p:blipFill>
          <a:blip r:embed="rId1"/>
          <a:stretch/>
        </p:blipFill>
        <p:spPr>
          <a:xfrm>
            <a:off x="2525760" y="1676520"/>
            <a:ext cx="366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he normal villain (petty thief) is the he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RlnVuPLtuDiEjwZUUDPQiOJ2TZADS-vUURgJG3yB3fvWM1zeRSLQ"/>
          <p:cNvPicPr/>
          <p:nvPr/>
        </p:nvPicPr>
        <p:blipFill>
          <a:blip r:embed="rId1"/>
          <a:stretch/>
        </p:blipFill>
        <p:spPr>
          <a:xfrm>
            <a:off x="1257480" y="17780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Nd9GcRzG73dfTzbRkXLIkDw9vhqCcJeGbq8FmSUIIrv7ZcbtEuntpfDww"/>
          <p:cNvPicPr/>
          <p:nvPr/>
        </p:nvPicPr>
        <p:blipFill>
          <a:blip r:embed="rId2"/>
          <a:stretch/>
        </p:blipFill>
        <p:spPr>
          <a:xfrm>
            <a:off x="5433840" y="176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9hrWkiSFJlGSnPzTxVA9z_HW1KCk1kJmcUP1Yp4vhl62Fa185"/>
          <p:cNvPicPr/>
          <p:nvPr/>
        </p:nvPicPr>
        <p:blipFill>
          <a:blip r:embed="rId3"/>
          <a:stretch/>
        </p:blipFill>
        <p:spPr>
          <a:xfrm>
            <a:off x="1166760" y="4160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Nd9GcTzH_dKnRmXMngp6x9RKL0nLyXkpNEi6HP66VWqMgFrmxWb0mAd8w"/>
          <p:cNvPicPr/>
          <p:nvPr/>
        </p:nvPicPr>
        <p:blipFill>
          <a:blip r:embed="rId4"/>
          <a:stretch/>
        </p:blipFill>
        <p:spPr>
          <a:xfrm>
            <a:off x="5595840" y="396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he crime is theft, not murder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hard to idealize a murde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JWMQeMeiEOp5ezBYzgN11-MihTkJ8nHOJviAw0szhMq-I7vzd8A"/>
          <p:cNvPicPr/>
          <p:nvPr/>
        </p:nvPicPr>
        <p:blipFill>
          <a:blip r:embed="rId1"/>
          <a:stretch/>
        </p:blipFill>
        <p:spPr>
          <a:xfrm>
            <a:off x="5319720" y="184464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TYFQFFAJlrv9SD9Ezkt02RLlKN0CWlsOgeCVNN2Yg7Qiy07TcH"/>
          <p:cNvPicPr/>
          <p:nvPr/>
        </p:nvPicPr>
        <p:blipFill>
          <a:blip r:embed="rId2"/>
          <a:stretch/>
        </p:blipFill>
        <p:spPr>
          <a:xfrm>
            <a:off x="5638680" y="3733920"/>
            <a:ext cx="1900440" cy="291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ANd9GcRWbwwWZY6EAiqbr_iqPutr_my73kJ76-0iOl14CQXXEIiAAM-AdA"/>
          <p:cNvPicPr/>
          <p:nvPr/>
        </p:nvPicPr>
        <p:blipFill>
          <a:blip r:embed="rId3"/>
          <a:stretch/>
        </p:blipFill>
        <p:spPr>
          <a:xfrm>
            <a:off x="304920" y="3505320"/>
            <a:ext cx="4076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here is a righteous pursuer who may or may not catch the thief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, the righteous pursuer can identify with and respect the thief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d9GcTehkfUCGVJXzPfrlWt6fBlCzjaJGSRwqEf94GZ2VZ7DhZ_UQ4T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Nd9GcTlB-MUoafhUiHOOUb07HoHzNVoj5o4q-Sdh1Ue9neGC6OC7Gy8"/>
          <p:cNvPicPr/>
          <p:nvPr/>
        </p:nvPicPr>
        <p:blipFill>
          <a:blip r:embed="rId2"/>
          <a:stretch/>
        </p:blipFill>
        <p:spPr>
          <a:xfrm>
            <a:off x="5105520" y="1676520"/>
            <a:ext cx="3405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The thief is not an evil master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y be smart, but it's the down to earth quality that helps the audience connect with the th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Nd9GcT8IjK4FxgHKAfHBow_2WHS8iIYIIfb9m1E31hjWIzHqX36eqWj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focus of the story is how the thief will get in and out successfully, not on how the righteous pursuer will catch th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ANd9GcSDvh6w04jZD4CJpf7_AP1BKmn4A1fVbd9tPoQIXyJUAr-byxwkPw"/>
          <p:cNvPicPr/>
          <p:nvPr/>
        </p:nvPicPr>
        <p:blipFill>
          <a:blip r:embed="rId1"/>
          <a:stretch/>
        </p:blipFill>
        <p:spPr>
          <a:xfrm>
            <a:off x="380880" y="3048120"/>
            <a:ext cx="3892680" cy="220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ANd9GcTlVRCjeSgm739pgnYvWp1CqTcX3G-LCgY2pVUUSAzG4JfoO4fKtA"/>
          <p:cNvPicPr/>
          <p:nvPr/>
        </p:nvPicPr>
        <p:blipFill>
          <a:blip r:embed="rId2"/>
          <a:stretch/>
        </p:blipFill>
        <p:spPr>
          <a:xfrm>
            <a:off x="4876920" y="3048120"/>
            <a:ext cx="37843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've ever watched a movie where one thief steals from an even worse thief, you've watched a cap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icture"/>
          <p:cNvPicPr/>
          <p:nvPr/>
        </p:nvPicPr>
        <p:blipFill>
          <a:blip r:embed="rId1"/>
          <a:stretch/>
        </p:blipFill>
        <p:spPr>
          <a:xfrm>
            <a:off x="2971800" y="3276720"/>
            <a:ext cx="3174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The thief is rarely harmed when their plans are foiled, just a bit of wounded pride at most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Nd9GcT50dltAIznpH1aeoe98R9lqzMKDVFbtlXZJ66sDxDB6poVBTeUUA"/>
          <p:cNvPicPr/>
          <p:nvPr/>
        </p:nvPicPr>
        <p:blipFill>
          <a:blip r:embed="rId1"/>
          <a:stretch/>
        </p:blipFill>
        <p:spPr>
          <a:xfrm>
            <a:off x="457200" y="2079720"/>
            <a:ext cx="4267080" cy="37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TNtuPKfgk7X7bAe3x_060mZpXVLpI8VlMvgnL8yedWjUcYHRb_"/>
          <p:cNvPicPr/>
          <p:nvPr/>
        </p:nvPicPr>
        <p:blipFill>
          <a:blip r:embed="rId2"/>
          <a:stretch/>
        </p:blipFill>
        <p:spPr>
          <a:xfrm>
            <a:off x="4724280" y="2335320"/>
            <a:ext cx="441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The Character is charming, clever, and witty so that the audience will like him/her more than the worse villain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ANd9GcTovZ8EIJOFJT_mlFjgvTQbIpcR5kdN-6NgkhUFu_YUkYmTX6Od8Q"/>
          <p:cNvPicPr/>
          <p:nvPr/>
        </p:nvPicPr>
        <p:blipFill>
          <a:blip r:embed="rId1"/>
          <a:stretch/>
        </p:blipFill>
        <p:spPr>
          <a:xfrm>
            <a:off x="380880" y="2732040"/>
            <a:ext cx="4114800" cy="230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a1hWH8_0EZifg6BH6BjYTEuPXD1_ItOvV1m2G5T2GDN6e3BzwOA"/>
          <p:cNvPicPr/>
          <p:nvPr/>
        </p:nvPicPr>
        <p:blipFill>
          <a:blip r:embed="rId2"/>
          <a:stretch/>
        </p:blipFill>
        <p:spPr>
          <a:xfrm>
            <a:off x="5334120" y="2514600"/>
            <a:ext cx="27828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Don't Know much About Art," by Simon B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icture"/>
          <p:cNvPicPr/>
          <p:nvPr/>
        </p:nvPicPr>
        <p:blipFill>
          <a:blip r:embed="rId1"/>
          <a:stretch/>
        </p:blipFill>
        <p:spPr>
          <a:xfrm>
            <a:off x="2438280" y="1447920"/>
            <a:ext cx="4113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Gorse: narrator, petty t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y Clinton: thief who Gorse tried to drive to the airport, but ran out of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Loxton: employer, private schoo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Depaldo: the f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Harbinger: Owner of Harbinger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is "Don't Know Much About Art" a caper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count the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ANd9GcRXx7vp0TAgs0cw0fC14kggGtUXyJIT6ZJFI7nTfD9sYml0dw2h9Q"/>
          <p:cNvPicPr/>
          <p:nvPr/>
        </p:nvPicPr>
        <p:blipFill>
          <a:blip r:embed="rId1"/>
          <a:stretch/>
        </p:blipFill>
        <p:spPr>
          <a:xfrm>
            <a:off x="1523880" y="2286000"/>
            <a:ext cx="62960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The normal villain (petty thief) is the hero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tory, Billy Gorse is the her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's a petty criminal and not a very successful one at that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SuD9XiX52D4mTNsA0fpoAhV66F50cpBc_wZ3by0kup2dPQcb8YTA"/>
          <p:cNvPicPr/>
          <p:nvPr/>
        </p:nvPicPr>
        <p:blipFill>
          <a:blip r:embed="rId1"/>
          <a:stretch/>
        </p:blipFill>
        <p:spPr>
          <a:xfrm>
            <a:off x="4191120" y="2427120"/>
            <a:ext cx="4495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ks du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 pro-wres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typical looking dumb vil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SuD9XiX52D4mTNsA0fpoAhV66F50cpBc_wZ3by0kup2dPQcb8YTA"/>
          <p:cNvPicPr/>
          <p:nvPr/>
        </p:nvPicPr>
        <p:blipFill>
          <a:blip r:embed="rId1"/>
          <a:stretch/>
        </p:blipFill>
        <p:spPr>
          <a:xfrm>
            <a:off x="4343400" y="1752480"/>
            <a:ext cx="42861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ooks dumber than he is, but he’s also done some dumb thing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ms, threatens, and he’s made silly mistak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ve the wrong people away in the getaway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ally returned stolen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his address on a ransom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ANd9GcRQYnYSH1Gim4FquohqpXInu6VWegAMdaONfocVgfNM6hW3FmrcdQ"/>
          <p:cNvPicPr/>
          <p:nvPr/>
        </p:nvPicPr>
        <p:blipFill>
          <a:blip r:embed="rId1"/>
          <a:stretch/>
        </p:blipFill>
        <p:spPr>
          <a:xfrm>
            <a:off x="4572000" y="2241720"/>
            <a:ext cx="42670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t, he is less of a criminal than Mr. Loxton and Lord Harb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't help but cheer for him as he out-smarts the two crusty, know-it-all blue-bl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Nd9GcQGIRUjkZI8d80Z-IrJ83p38qkdZ8QhHVOMpWa6i1dwLx_ql-Uz"/>
          <p:cNvPicPr/>
          <p:nvPr/>
        </p:nvPicPr>
        <p:blipFill>
          <a:blip r:embed="rId1"/>
          <a:stretch/>
        </p:blipFill>
        <p:spPr>
          <a:xfrm>
            <a:off x="1752480" y="2963880"/>
            <a:ext cx="5500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The crime is theft, not murd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is hired to steal a painting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e’s still a good gu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ells us that he won'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murder for h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g old lad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his crimes seem pretty harmles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ides, what's the harm in stealing a old painting from a bunch of rich fol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ture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There is a righteous pursuer who may or may not catch the thief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and no on this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police man or private investigator pursuing Bil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illy becomes the righteous pursuer when he realizes that he is being set up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n the one who must pursue Mr. Loxton and the man he was speaking to in order for himself to survive this deal.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The thief is not an evil mastermind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is no evil mastermind; but he isn't as daft as he first portrayed himself to b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scribes himself as a type of brainless, blunt object to be used to mindless tasks on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he manages to have the painting handed to him as he goes out the door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The focus of the story is how the thief will get in and out successfully, not on how the righteous pursuer will catch the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y, as told by Billy himself, focuses on how he could possibly steal this painting, or at least survive once he stole the painting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uccess is his ultimate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The thief is rarely harmed when their plans are foiled, just a bit of wounded pride at most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and Lord Harbinger are not harmed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seemingly embarrasses himself in front of Lord Harbinger, the other guests, and the staff as the painting falls out of his unzipped suitcase as he walks down the stai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d Harbinger is humiliated in front of his guests as he tries to cover up the insurance sc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Mr. Loxton gets caught up in his own bombing scheme and dies while trying to drive the bomb-rigged car away from Harbinger H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 The Character is charming, clever, and witty so that the audience will like him/her more than the worse vil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not to love about Billy's self deprecating humor?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icture"/>
          <p:cNvPicPr/>
          <p:nvPr/>
        </p:nvPicPr>
        <p:blipFill>
          <a:blip r:embed="rId1"/>
          <a:stretch/>
        </p:blipFill>
        <p:spPr>
          <a:xfrm>
            <a:off x="1681200" y="228600"/>
            <a:ext cx="6396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criminal becomes a thieving hero, you have  yourself a caper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Nd9GcSQWjPNJo875XeMEdq9i-05mgf-7SgVAVj1khLWmzvh0ORFQcj3DA"/>
          <p:cNvPicPr/>
          <p:nvPr/>
        </p:nvPicPr>
        <p:blipFill>
          <a:blip r:embed="rId1"/>
          <a:stretch/>
        </p:blipFill>
        <p:spPr>
          <a:xfrm>
            <a:off x="3048120" y="2362320"/>
            <a:ext cx="294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ughout history writer's and audiences have had a soft spot for the criminal 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major interes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heft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criminal will get a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justice will be 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is formula, the moral line takes a quite flexible view of just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QT803cIuvb_vcBibJztTLpPZbT764Tz7M9sTko0Mp9Kj_lAjuc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Robin Hood for instanc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ThoXDszN3BPxzleXqIybzW8tKpRl8GU_MVV3u6iAoGtTn4lPowhA"/>
          <p:cNvPicPr/>
          <p:nvPr/>
        </p:nvPicPr>
        <p:blipFill>
          <a:blip r:embed="rId1"/>
          <a:stretch/>
        </p:blipFill>
        <p:spPr>
          <a:xfrm>
            <a:off x="2209680" y="1371600"/>
            <a:ext cx="3884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 stealing is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it wrong if the government is failing the people through the over taxation of an illegitimate ruler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as80P2mG7fXcQEGI1DTMBP5GJggALnofVOFsJXhMQJv3mASy_fg"/>
          <p:cNvPicPr/>
          <p:nvPr/>
        </p:nvPicPr>
        <p:blipFill>
          <a:blip r:embed="rId1"/>
          <a:stretch/>
        </p:blipFill>
        <p:spPr>
          <a:xfrm>
            <a:off x="4432320" y="1371600"/>
            <a:ext cx="424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8:00:18Z</dcterms:created>
  <dc:creator>Leah Vanderwarker</dc:creator>
  <dc:description/>
  <dc:language>en-US</dc:language>
  <cp:lastModifiedBy>Leah Vanderwarker</cp:lastModifiedBy>
  <dcterms:modified xsi:type="dcterms:W3CDTF">2013-10-18T16:38:27Z</dcterms:modified>
  <cp:revision>25</cp:revision>
  <dc:subject/>
  <dc:title>The Caper</dc:title>
</cp:coreProperties>
</file>