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87CB-C8F7-4429-9496-F2156496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426D-6EE4-41D0-A5AF-4DB097FF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2729-BB24-4315-BD33-B8D2E8173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600D-9837-49E4-8075-1DC25BA8C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BC0F-F3D7-4F0B-B77E-F2347AA4D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A189-C26E-4399-AD80-75C5F818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E9C4-34CD-4D67-A2B9-59634864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6A31-6005-4C59-96FF-916C95DF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49B2-9A20-4C9C-8774-16AF5448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4D99-F5E7-4AB5-B770-82F9D670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5858-45F5-4532-8DA7-2DFE380D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22CA-6B39-4E87-8F9C-30B00716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3A14-FB44-4BDA-A826-E7080890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E9D9-BE6E-4A9D-8C94-920C9E49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8CA2-ACB6-458E-A64D-9AD47991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D9A0-E84C-4EFC-858C-6FD68C2FE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D2E1-3979-4D38-B8D4-072F00102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9135-73FF-4475-92F9-AABF5E75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BD37-5210-43E2-9BFB-5C5483A5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C6E5-894F-4957-B728-122E06F7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90A5-E571-4B48-866E-AE390983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F108-2FAC-45FF-886A-C593DB10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7B73-F1D3-4050-A5AF-77450D62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06E5-6535-4C64-9DAC-A546AD81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77B2-C2E3-423A-BEAE-417B6CD2136A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7E8E-5488-4851-808A-D281D33D8A47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"The Man Who Read John Dickson Carr," by William Brittain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otiv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know he has a motive to kill his uncle (excluding Edgar from his will), and so does his uncle's lawyer and doctor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ea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also know that he is a grown man who is physically able to kill his uncle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had knowledge of the chemical reaction to start the fire after he went up the chimne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pportunit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 in order for Edgar to get away with murder he must cast doubt on his opportunity to commit the murder by creating a locked room scenario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he couldn't have gotten in or out of the room, how could he have killed his uncle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28800" y="685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ll of his preparations where to prove that he did not have the opportunity to kill his uncle. 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880" y="2597040"/>
            <a:ext cx="7010640" cy="34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cleaned the chimney, and wore all white clothes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hid the sword in the corner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got the chemical paper to light a fire after he escaped through the chimney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11426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ll this was so that the two witnesses could not possibly place him at the scene of the crime regardless of his obvious motive or means. 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3498480"/>
            <a:ext cx="70106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52480" y="7617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Yet all of his efforts were futile, being that he forgot to lock the door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76520" y="2514600"/>
            <a:ext cx="563868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33523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 this story, Edgar decides to emanate his idol, the mystery novelist John Dickson Carr, by committing a locked room murder that would be worthy of a mystery novel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289548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47500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35120" y="0"/>
            <a:ext cx="466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819520" y="0"/>
            <a:ext cx="41162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81080" y="12189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e would have pulled it off too, except for one very important detail: he forgot to lock the door. 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3013200"/>
            <a:ext cx="701064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971800" y="2971800"/>
            <a:ext cx="3276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1371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 Brittain's story we can see the use of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eans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tiv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pportunity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as Edgar schemes to commit the perfect crime (one that he cannot be found guilty for). 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4260960"/>
            <a:ext cx="701064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only possible perfect crim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6T15:20:15Z</dcterms:created>
  <dc:creator>Leah Vanderwarker</dc:creator>
  <dc:description/>
  <dc:language>en-US</dc:language>
  <cp:lastModifiedBy>Leah Vanderwarker</cp:lastModifiedBy>
  <dcterms:modified xsi:type="dcterms:W3CDTF">2013-10-09T19:49:59Z</dcterms:modified>
  <cp:revision>4</cp:revision>
  <dc:subject/>
  <dc:title>"The Man Who Read John Dickson Carr," by William Brittain </dc:title>
</cp:coreProperties>
</file>