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601-238B-4F2F-A80D-E7BDB4AAC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F62-5159-435A-8855-D5B71DFA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11B-1DD2-4700-9DC4-3FADC068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499-7E37-4519-83AE-E8BE79D08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47B0-409C-41AD-B74D-306F08898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E546-16D8-4451-AF39-47C21187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0934-2C11-44AD-A4BF-57AA4FB3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CEB9-74E4-4266-8872-3C1F9094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7C090-F3A6-40DF-8B73-CC0A3F16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8113-0B9B-437E-9670-F1B5D939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0622-3269-47D6-9F3C-E082E8C6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DB2-B7DE-40E1-B1B1-EE45C85D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FF12-64F7-47BD-B19A-195A26D1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3112-E152-4E42-AB97-5E7A9FC1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84E1-7A53-4CC8-91C8-21BD65E4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7C47-8F04-42EF-8F3D-07BBA160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BB98-67B9-4689-B109-6DC073F7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70AB-049E-4E90-8C11-B1473E5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D59-2914-45B0-91D4-6FAAC390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572-7129-4A71-9151-C6D96D05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FFB3-C50D-434F-9FE1-A38CEA0E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FA3-8673-46DA-B674-33D4B84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0979-F247-4B13-B81F-DF6794BA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11C-9BEA-402C-9121-EE2C0A5A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86AB-8224-4742-97ED-73224F50501F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ECBC-9A80-48B4-8ACF-DBF893F99B7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"The Man Who Read John Dickson Carr," by William Brittain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tiv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know he has a motive to kill his uncle (excluding Edgar from his will), and so does his uncle's lawyer and doctor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lso know that he is a grown man who is physically able to kill his uncle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had knowledge of the chemical reaction to start the fire after he went up the chimne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portun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 in order for Edgar to get away with murder he must cast doubt on his opportunity to commit the murder by creating a locked room scenario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he couldn't have gotten in or out of the room, how could he have killed his uncl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l of his preparations where to prove that he did not have the opportunity to kill his uncle. 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2597040"/>
            <a:ext cx="7010640" cy="34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cleaned the chimney, and wore all white clothes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hid the sword in the corner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 got the chemical paper to light a fire after he escaped through the chimney. 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1142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ll this was so that the two witnesses could not possibly place him at the scene of the crime regardless of his obvious motive or means. 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3498480"/>
            <a:ext cx="7010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Yet all of his efforts were futile, being that he forgot to lock the doo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6386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3523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this story, Edgar decides to emanate his idol, the mystery novelist John Dickson Carr, by committing a locked room murder that would be worthy of a mystery novel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95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750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3512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4116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1218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e would have pulled it off too, except for one very important detail: he forgot to lock the door. 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3013200"/>
            <a:ext cx="701064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27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Brittain's story we can see the use of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tive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pportunity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as Edgar schemes to commit the perfect crime (one that he cannot be found guilty for). 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4260960"/>
            <a:ext cx="7010640" cy="17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only possible perfect crim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5:20:15Z</dcterms:created>
  <dc:creator>Leah Vanderwarker</dc:creator>
  <dc:description/>
  <dc:language>en-US</dc:language>
  <cp:lastModifiedBy>Leah Vanderwarker</cp:lastModifiedBy>
  <dcterms:modified xsi:type="dcterms:W3CDTF">2013-10-09T19:49:59Z</dcterms:modified>
  <cp:revision>4</cp:revision>
  <dc:subject/>
  <dc:title>"The Man Who Read John Dickson Carr," by William Brittain </dc:title>
</cp:coreProperties>
</file>