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2E0501-A143-4B90-BE74-7148E1F34C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96B17D-321A-4902-8793-6B5F2A06B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119B78-FA10-47C0-AD18-0F5881FFEF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0D715F-7A0E-4253-A179-0DBD1A165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58F10-EF1A-427F-9551-4986AEE26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03ADA-EF99-4107-8AFF-10F481E3E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1664D-13C5-445E-9773-2C0F11E6D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48D9F-4904-4C0D-A347-5D4AEE5C9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7D06E-E75C-4B47-95A8-5156C5D36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CB557-BA2E-44D1-A1D2-6B42C6C79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C0FAF-9C03-4184-A502-6E57E5AAE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7D590F-EF59-4904-97EC-1D2F6E0E1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61E4D-8340-4294-9396-BEF3DC41D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D75A6-5D9F-431E-AF44-A61F4E78A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800DF-B270-4FED-8187-2647D89FF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B00F7-C1A2-45BE-BC80-DDB224E2F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247D5-8FB2-4477-876E-E9F9FB94D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2F172D-30B4-468B-9AFD-BFFAA9CEF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E05DD-18C1-4C89-A9F3-A4A5F7B0F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6927D-B701-4D10-A072-138C7B108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6C9A22-D1A2-42B2-B927-8165ABA3D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A1345-E224-48AE-92C9-3AA172565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37094-49AC-4C49-8567-1B0C4D62A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8BFB8-C47A-40BF-94E9-2803EEE419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4308-70D5-42E5-AE49-94A3DFE823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87C1-53AA-4EAC-9D87-9E4134933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The SAT® Writing Sectio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209680" y="1599840"/>
            <a:ext cx="6400800" cy="47242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AT writing section, which includes both multiple-choice questions and an essay, measures a student’s ability</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velop and express ideas clearly and effectively. Research shows that of all sections of the SAT, the writing section</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best predictor of students’ academic</a:t>
            </a:r>
            <a:r>
              <a:rPr b="0" lang="en-US" sz="2600" spc="-1" strike="noStrike">
                <a:solidFill>
                  <a:srgbClr val="000000"/>
                </a:solidFill>
                <a:latin typeface="Arial"/>
              </a:rPr>
              <a:t> performance in college. This is true for students across all racial/ethnic</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ity groups.</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formation is from: </a:t>
            </a:r>
            <a:r>
              <a:rPr b="0" lang="en-US" sz="1600" spc="-1" strike="noStrike" u="sng">
                <a:solidFill>
                  <a:srgbClr val="00007d"/>
                </a:solidFill>
                <a:uFillTx/>
                <a:latin typeface="Arial"/>
              </a:rPr>
              <a:t>www.collegeboard.com/scorewr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listic Scoring</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ays are scored in a manner that is fair and consistent, using a holistic approach.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olistic scoring, a piece of writing is considered as a total work, the whole of which is greater than the sum of its parts.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ay is scored by qualified readers who take into account such aspects as complexity of thought, substantiality of development and facility with language.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der does not judge a work based on its separate traits, but rather on the total impression it creates.</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istic scoring recognizes that the real merit of a piece of writing cannot be determined by merely adding together the values assigned to such separate factors as word choice, organization, use of evidence and adherence to the conventions of Standard Written English.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ow these separate factors blend into and become the whole that is important.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stic scoring evaluates this whole equitably and relia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are required to keep a number of criteria in mind when scoring essays. These criteria include:</a:t>
            </a:r>
            <a:endParaRPr b="0" lang="en-US" sz="28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oring Guide provides a consistent and coherent framework for differentiating between score point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to gain an impression of the whole essay, and then scoring immediately;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upportively,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and rewarding what is done well rather than penalizing what is done poorly or what is omit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ing the quality of handwriting;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judging an essay by its quality, not by its leng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a:t>
            </a:r>
            <a:endParaRPr b="0" lang="en-US" sz="4400" spc="-1" strike="noStrike">
              <a:solidFill>
                <a:srgbClr val="000000"/>
              </a:solidFill>
              <a:latin typeface="Arial"/>
            </a:endParaRPr>
          </a:p>
        </p:txBody>
      </p:sp>
      <p:sp>
        <p:nvSpPr>
          <p:cNvPr id="131"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is scored independently by two qualified readers on a scale of 1 to 6, with the combined score for both readers ranging from 2 to 1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wo readers’ scores differ by more than one point, the scoring leader resolves the differ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ays not written on the essay assign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a score of 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6</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clear</a:t>
            </a:r>
            <a:br>
              <a:rPr sz="2000"/>
            </a:br>
            <a:r>
              <a:rPr b="0" i="1" lang="en-US" sz="2000" spc="-1" strike="noStrike">
                <a:solidFill>
                  <a:srgbClr val="000000"/>
                </a:solidFill>
                <a:latin typeface="Arial"/>
              </a:rPr>
              <a:t>and consistent mastery</a:t>
            </a:r>
            <a:r>
              <a:rPr b="0" lang="en-US" sz="2000" spc="-1" strike="noStrike">
                <a:solidFill>
                  <a:srgbClr val="000000"/>
                </a:solidFill>
                <a:latin typeface="Arial"/>
              </a:rPr>
              <a:t>, although it may have</a:t>
            </a:r>
            <a:br>
              <a:rPr sz="2000"/>
            </a:br>
            <a:r>
              <a:rPr b="0" lang="en-US" sz="2000" spc="-1" strike="noStrike">
                <a:solidFill>
                  <a:srgbClr val="000000"/>
                </a:solidFill>
                <a:latin typeface="Arial"/>
              </a:rPr>
              <a:t>a few minor errors. A typical essay:</a:t>
            </a:r>
            <a:br>
              <a:rPr sz="2000"/>
            </a:br>
            <a:endParaRPr b="0" lang="en-US" sz="2000" spc="-1" strike="noStrike">
              <a:solidFill>
                <a:srgbClr val="000000"/>
              </a:solidFill>
              <a:latin typeface="Arial"/>
            </a:endParaRPr>
          </a:p>
        </p:txBody>
      </p:sp>
      <p:graphicFrame>
        <p:nvGraphicFramePr>
          <p:cNvPr id="133" name=""/>
          <p:cNvGraphicFramePr/>
          <p:nvPr/>
        </p:nvGraphicFramePr>
        <p:xfrm>
          <a:off x="457200" y="1600200"/>
          <a:ext cx="8229600" cy="5172120"/>
        </p:xfrm>
        <a:graphic>
          <a:graphicData uri="http://schemas.openxmlformats.org/drawingml/2006/table">
            <a:tbl>
              <a:tblPr/>
              <a:tblGrid>
                <a:gridCol w="822960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ffectively and insightfully develops a point of view on the issue and demonstrates outstanding critical thinking, using clearly appropriate examples, reasons and other evidence to support its positio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s well organized and clearly focused, demonstrating clear coherence and smooth progression of idea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hibits skillful use of language, using a varied, accurate and apt vocabula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monstrates meaningful variety in sentence structu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s free of most errors in grammar, usage and mechanic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5</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reasonably consistent mastery</a:t>
            </a:r>
            <a:r>
              <a:rPr b="0" lang="en-US" sz="2000" spc="-1" strike="noStrike">
                <a:solidFill>
                  <a:srgbClr val="000000"/>
                </a:solidFill>
                <a:latin typeface="Arial"/>
              </a:rPr>
              <a:t>, although it will have occasional errors or lapses in quality. A typical essay:</a:t>
            </a:r>
            <a:endParaRPr b="0" lang="en-US" sz="2000" spc="-1" strike="noStrike">
              <a:solidFill>
                <a:srgbClr val="000000"/>
              </a:solidFill>
              <a:latin typeface="Arial"/>
            </a:endParaRPr>
          </a:p>
        </p:txBody>
      </p:sp>
      <p:graphicFrame>
        <p:nvGraphicFramePr>
          <p:cNvPr id="135" name=""/>
          <p:cNvGraphicFramePr/>
          <p:nvPr/>
        </p:nvGraphicFramePr>
        <p:xfrm>
          <a:off x="457200" y="1600200"/>
          <a:ext cx="8229600" cy="4626000"/>
        </p:xfrm>
        <a:graphic>
          <a:graphicData uri="http://schemas.openxmlformats.org/drawingml/2006/table">
            <a:tbl>
              <a:tblPr/>
              <a:tblGrid>
                <a:gridCol w="822960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ively develops a point of view on the issue and demonstrates strong critical thinking, generally using appropriate examples, reasons and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well organized and focused, demonstrating coherence and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hibits facility in the use of language, using appropriate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s variety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generally free of most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4</a:t>
            </a:r>
            <a:r>
              <a:rPr b="1" lang="en-US" sz="1800" spc="-1" strike="noStrike">
                <a:solidFill>
                  <a:srgbClr val="000000"/>
                </a:solidFill>
                <a:latin typeface="Arial"/>
              </a:rPr>
              <a:t>  An essay in this category demonstrates </a:t>
            </a:r>
            <a:r>
              <a:rPr b="1" i="1" lang="en-US" sz="1800" spc="-1" strike="noStrike">
                <a:solidFill>
                  <a:srgbClr val="000000"/>
                </a:solidFill>
                <a:latin typeface="Arial"/>
              </a:rPr>
              <a:t>adequate</a:t>
            </a:r>
            <a:br>
              <a:rPr sz="1800"/>
            </a:br>
            <a:r>
              <a:rPr b="1" i="1" lang="en-US" sz="1800" spc="-1" strike="noStrike">
                <a:solidFill>
                  <a:srgbClr val="000000"/>
                </a:solidFill>
                <a:latin typeface="Arial"/>
              </a:rPr>
              <a:t>mastery</a:t>
            </a:r>
            <a:r>
              <a:rPr b="1" lang="en-US" sz="1800" spc="-1" strike="noStrike">
                <a:solidFill>
                  <a:srgbClr val="000000"/>
                </a:solidFill>
                <a:latin typeface="Arial"/>
              </a:rPr>
              <a:t>, although it will have lapses in quality. A typical essay:</a:t>
            </a:r>
            <a:endParaRPr b="0" lang="en-US" sz="1800" spc="-1" strike="noStrike">
              <a:solidFill>
                <a:srgbClr val="000000"/>
              </a:solidFill>
              <a:latin typeface="Arial"/>
            </a:endParaRPr>
          </a:p>
        </p:txBody>
      </p:sp>
      <p:graphicFrame>
        <p:nvGraphicFramePr>
          <p:cNvPr id="137" name=""/>
          <p:cNvGraphicFramePr/>
          <p:nvPr/>
        </p:nvGraphicFramePr>
        <p:xfrm>
          <a:off x="457200" y="1600200"/>
          <a:ext cx="8229600" cy="4626000"/>
        </p:xfrm>
        <a:graphic>
          <a:graphicData uri="http://schemas.openxmlformats.org/drawingml/2006/table">
            <a:tbl>
              <a:tblPr/>
              <a:tblGrid>
                <a:gridCol w="822960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a point of view on the issue and demonstrates competent critical thinking, using adequate examples, reasons and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generally organized and focused, demonstrating some coherence and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ibits adequate but inconsistent facility in the use of language, using generally appropriate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s some variety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ome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3</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developing</a:t>
            </a:r>
            <a:br>
              <a:rPr sz="2000"/>
            </a:br>
            <a:r>
              <a:rPr b="0" i="1" lang="en-US" sz="2000" spc="-1" strike="noStrike">
                <a:solidFill>
                  <a:srgbClr val="000000"/>
                </a:solidFill>
                <a:latin typeface="Arial"/>
              </a:rPr>
              <a:t>mastery</a:t>
            </a:r>
            <a:r>
              <a:rPr b="0" lang="en-US" sz="2000" spc="-1" strike="noStrike">
                <a:solidFill>
                  <a:srgbClr val="000000"/>
                </a:solidFill>
                <a:latin typeface="Arial"/>
              </a:rPr>
              <a:t>, and is marked by ONE OR MORE of the following weaknesses:</a:t>
            </a:r>
            <a:endParaRPr b="0" lang="en-US" sz="2000" spc="-1" strike="noStrike">
              <a:solidFill>
                <a:srgbClr val="000000"/>
              </a:solidFill>
              <a:latin typeface="Arial"/>
            </a:endParaRPr>
          </a:p>
        </p:txBody>
      </p:sp>
      <p:graphicFrame>
        <p:nvGraphicFramePr>
          <p:cNvPr id="139" name=""/>
          <p:cNvGraphicFramePr/>
          <p:nvPr/>
        </p:nvGraphicFramePr>
        <p:xfrm>
          <a:off x="380880" y="1600200"/>
          <a:ext cx="8305920" cy="4626000"/>
        </p:xfrm>
        <a:graphic>
          <a:graphicData uri="http://schemas.openxmlformats.org/drawingml/2006/table">
            <a:tbl>
              <a:tblPr/>
              <a:tblGrid>
                <a:gridCol w="830592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a point of view on the issue, demonstrating some critical thinking, but may do so inconsistently or use inadequate examples, reasons or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limited in its organization or focus, or may demonstrate some lapses in coherence or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developing facility in the use of language, but sometimes uses weak vocabulary or inappropriate word choi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lacks variety or demonstrates problem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an accumulation of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2</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little mastery</a:t>
            </a:r>
            <a:r>
              <a:rPr b="0" lang="en-US" sz="2000" spc="-1" strike="noStrike">
                <a:solidFill>
                  <a:srgbClr val="000000"/>
                </a:solidFill>
                <a:latin typeface="Arial"/>
              </a:rPr>
              <a:t>, and is flawed by ONE OR MORE of the following weaknesses:</a:t>
            </a:r>
            <a:endParaRPr b="0" lang="en-US" sz="2000" spc="-1" strike="noStrike">
              <a:solidFill>
                <a:srgbClr val="000000"/>
              </a:solidFill>
              <a:latin typeface="Arial"/>
            </a:endParaRPr>
          </a:p>
        </p:txBody>
      </p:sp>
      <p:graphicFrame>
        <p:nvGraphicFramePr>
          <p:cNvPr id="141" name=""/>
          <p:cNvGraphicFramePr/>
          <p:nvPr/>
        </p:nvGraphicFramePr>
        <p:xfrm>
          <a:off x="457200" y="1600200"/>
          <a:ext cx="8229600" cy="4930920"/>
        </p:xfrm>
        <a:graphic>
          <a:graphicData uri="http://schemas.openxmlformats.org/drawingml/2006/table">
            <a:tbl>
              <a:tblPr/>
              <a:tblGrid>
                <a:gridCol w="822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a point of view on the issue that is vague or seriously limited, and demonstrates weak critical thinking, providing inappropriate or insufficient examples, reasons or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poorly organized and/or focused, or demonstrates serious problems with coherence or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very little facility in the use of language, using very limited vocabulary or incorrect word choi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monstrates frequent problem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errors in grammar, usage and mechanics so serious that meaning is somewhat obscure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1</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very little </a:t>
            </a:r>
            <a:r>
              <a:rPr b="0" lang="en-US" sz="2000" spc="-1" strike="noStrike">
                <a:solidFill>
                  <a:srgbClr val="000000"/>
                </a:solidFill>
                <a:latin typeface="Arial"/>
              </a:rPr>
              <a:t>or </a:t>
            </a:r>
            <a:r>
              <a:rPr b="0" i="1" lang="en-US" sz="2000" spc="-1" strike="noStrike">
                <a:solidFill>
                  <a:srgbClr val="000000"/>
                </a:solidFill>
                <a:latin typeface="Arial"/>
              </a:rPr>
              <a:t>no mastery</a:t>
            </a:r>
            <a:r>
              <a:rPr b="0" lang="en-US" sz="2000" spc="-1" strike="noStrike">
                <a:solidFill>
                  <a:srgbClr val="000000"/>
                </a:solidFill>
                <a:latin typeface="Arial"/>
              </a:rPr>
              <a:t>, and is severely flawed by ONE OR MORE of the following weaknesses:</a:t>
            </a:r>
            <a:endParaRPr b="0" lang="en-US" sz="2000" spc="-1" strike="noStrike">
              <a:solidFill>
                <a:srgbClr val="000000"/>
              </a:solidFill>
              <a:latin typeface="Arial"/>
            </a:endParaRPr>
          </a:p>
        </p:txBody>
      </p:sp>
      <p:graphicFrame>
        <p:nvGraphicFramePr>
          <p:cNvPr id="143" name=""/>
          <p:cNvGraphicFramePr/>
          <p:nvPr/>
        </p:nvGraphicFramePr>
        <p:xfrm>
          <a:off x="457200" y="1981080"/>
          <a:ext cx="8229600" cy="3886200"/>
        </p:xfrm>
        <a:graphic>
          <a:graphicData uri="http://schemas.openxmlformats.org/drawingml/2006/table">
            <a:tbl>
              <a:tblPr/>
              <a:tblGrid>
                <a:gridCol w="8229600"/>
              </a:tblGrid>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no viable point of view on the issue, or provides little or no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disorganized or unfocused, resulting in a disjointed or incoherent essa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fundamental errors in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7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monstrates severe flaw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pervasive errors in grammar, usage or mechanics that persistently interfere with meaning</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types of multiple-choice writing questions: improving sentences, identifying sentence errors and</a:t>
            </a:r>
            <a:br>
              <a:rPr sz="2400"/>
            </a:br>
            <a:r>
              <a:rPr b="1" lang="en-US" sz="2400" spc="-1" strike="noStrike">
                <a:solidFill>
                  <a:srgbClr val="000000"/>
                </a:solidFill>
                <a:latin typeface="Arial"/>
              </a:rPr>
              <a:t>improving paragraphs.</a:t>
            </a:r>
            <a:endParaRPr b="0" lang="en-US" sz="2400" spc="-1" strike="noStrike">
              <a:solidFill>
                <a:srgbClr val="000000"/>
              </a:solidFill>
              <a:latin typeface="Arial"/>
            </a:endParaRPr>
          </a:p>
        </p:txBody>
      </p:sp>
      <p:sp>
        <p:nvSpPr>
          <p:cNvPr id="109" name="PlaceHolder 2"/>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sess a student’s ability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language that is consistent in ten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understand parallelism and subject-verb agree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understand how to express ideas logic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ambiguous and vague pronouns, excessive wordiness and sentence fragments. </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asked to define or use grammatical term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and capitalization are not teste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count toward about two-thirds of the total writing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assesses students’ ability to think critically and to write effectively under time constraints similar to those they will encounter on essay examinations in college cours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given 25 minutes to handwrite their essay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portion of the SAT writing section was created with an understanding that an essay written in a short amount of time will not be polished but represents the initial phase of the writing process: </a:t>
            </a:r>
            <a:r>
              <a:rPr b="1" i="1" lang="en-US" sz="2800" spc="-1" strike="noStrike">
                <a:solidFill>
                  <a:srgbClr val="000000"/>
                </a:solidFill>
                <a:latin typeface="Arial"/>
              </a:rPr>
              <a:t>the first dra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counts toward roughly one-third of the total writing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fontScale="95000"/>
          </a:bodyPr>
          <a:p>
            <a:pPr marL="325800" indent="-325800" algn="ctr">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mbination of the multiple-choice items and the essay provides an assessment of writing that takes into account both the student’s ability to </a:t>
            </a:r>
            <a:r>
              <a:rPr b="0" i="1" lang="en-US" sz="4000" spc="-1" strike="noStrike">
                <a:solidFill>
                  <a:srgbClr val="000000"/>
                </a:solidFill>
                <a:latin typeface="Arial"/>
              </a:rPr>
              <a:t>develop ideas</a:t>
            </a:r>
            <a:r>
              <a:rPr b="0" lang="en-US" sz="4000" spc="-1" strike="noStrike">
                <a:solidFill>
                  <a:srgbClr val="000000"/>
                </a:solidFill>
                <a:latin typeface="Arial"/>
              </a:rPr>
              <a:t> in a thoughtful, coherent and cogent essay and his or her </a:t>
            </a:r>
            <a:r>
              <a:rPr b="0" i="1" lang="en-US" sz="4000" spc="-1" strike="noStrike">
                <a:solidFill>
                  <a:srgbClr val="000000"/>
                </a:solidFill>
                <a:latin typeface="Arial"/>
              </a:rPr>
              <a:t>understanding of the conventions</a:t>
            </a:r>
            <a:r>
              <a:rPr b="0" lang="en-US" sz="4000" spc="-1" strike="noStrike">
                <a:solidFill>
                  <a:srgbClr val="000000"/>
                </a:solidFill>
                <a:latin typeface="Arial"/>
              </a:rPr>
              <a:t> of langu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914400"/>
            <a:ext cx="82296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SAT essay, as well as for </a:t>
            </a:r>
            <a:r>
              <a:rPr b="1" i="1" lang="en-US" sz="2400" spc="-1" strike="noStrike">
                <a:solidFill>
                  <a:srgbClr val="000000"/>
                </a:solidFill>
                <a:latin typeface="Arial"/>
              </a:rPr>
              <a:t>ScoreWrite</a:t>
            </a:r>
            <a:r>
              <a:rPr b="1" lang="en-US" sz="2400" spc="-1" strike="noStrike">
                <a:solidFill>
                  <a:srgbClr val="000000"/>
                </a:solidFill>
                <a:latin typeface="Arial"/>
              </a:rPr>
              <a:t>, students will have25 minutes to write a first draft of an original essay. This task provides a direct measure of a student’s ability, under timed conditions, to write clearly and effectively — a skill required in many college courses. Effective writing is marked by:</a:t>
            </a:r>
            <a:endParaRPr b="0" lang="en-US" sz="2400" spc="-1" strike="noStrike">
              <a:solidFill>
                <a:srgbClr val="000000"/>
              </a:solidFill>
              <a:latin typeface="Arial"/>
            </a:endParaRPr>
          </a:p>
        </p:txBody>
      </p:sp>
      <p:sp>
        <p:nvSpPr>
          <p:cNvPr id="115" name="PlaceHolder 2"/>
          <p:cNvSpPr>
            <a:spLocks noGrp="1"/>
          </p:cNvSpPr>
          <p:nvPr>
            <p:ph/>
          </p:nvPr>
        </p:nvSpPr>
        <p:spPr>
          <a:xfrm>
            <a:off x="457200" y="2895480"/>
            <a:ext cx="4038480" cy="3764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of a point of view</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presentation of ide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lines of reaso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focus </a:t>
            </a:r>
            <a:endParaRPr b="0" lang="en-US" sz="2800" spc="-1" strike="noStrike">
              <a:solidFill>
                <a:srgbClr val="000000"/>
              </a:solidFill>
              <a:latin typeface="Arial"/>
            </a:endParaRPr>
          </a:p>
        </p:txBody>
      </p:sp>
      <p:sp>
        <p:nvSpPr>
          <p:cNvPr id="116" name="PlaceHolder 3"/>
          <p:cNvSpPr>
            <a:spLocks noGrp="1"/>
          </p:cNvSpPr>
          <p:nvPr>
            <p:ph/>
          </p:nvPr>
        </p:nvSpPr>
        <p:spPr>
          <a:xfrm>
            <a:off x="4648320" y="2895480"/>
            <a:ext cx="4038480" cy="3764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hoices of eviden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ful coheren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rganiz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 use of langu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with the r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ay Prompt</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e asked to write in response to an essay assignment, or prompt, that is carefully selected so they can respond quickly in a variety of way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s are easily accessible to the general test-taking population, including those for whom English is a second languag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s are free of figurative, technical or specific literary references; they do not draw on specialized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mpt stimulates critical thinking and is relevant to any number of fields and interes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ives students the opportunity to draw on a broad range of experiences, learning and ideas to support their points of view on the issue in 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pt Forma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mpt consists of a short paragraph (no more than 80 words) adapted from some authentic tex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prompt is an assignment that has the students focus on the issue addressed in the paragraph.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tudents are asked to address a specific issue, they are not able to prepare an essay in advance that will effectively address the essay assignmen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take a couple of minutes to plan their response to the assignment before they begin to wr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Write About?</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ay write abou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tur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r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or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tic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and scienc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stor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events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observation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ng other topics.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ay accept or reject the idea presented in the prompt to whatever extent they see fit.</a:t>
            </a:r>
            <a:endParaRPr b="0" lang="en-US" sz="2000" spc="-1" strike="noStrike">
              <a:solidFill>
                <a:srgbClr val="000000"/>
              </a:solidFill>
              <a:latin typeface="Arial"/>
            </a:endParaRPr>
          </a:p>
        </p:txBody>
      </p:sp>
      <p:sp>
        <p:nvSpPr>
          <p:cNvPr id="12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draw on the rhetorical approach that best suits their writing style and purpo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udents may use an expository or argumentative style;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may structure essays through comparison or contrast, or other techniques, including personal narra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mpt</a:t>
            </a:r>
            <a:endParaRPr b="0" lang="en-US" sz="4400" spc="-1" strike="noStrike">
              <a:solidFill>
                <a:srgbClr val="000000"/>
              </a:solidFill>
              <a:latin typeface="Arial"/>
            </a:endParaRPr>
          </a:p>
        </p:txBody>
      </p:sp>
      <p:sp>
        <p:nvSpPr>
          <p:cNvPr id="12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arly childhood, we are encouraged—pressured, even—to be in the company of others: we are urged to belong to this or that group, to join this or that club, to spend time with this or that friend. People do everything to avoid being by themselves, treating solitude as though it were the equivalent of loneliness. And yet it is only when people are by themselves that they can truly achieve their most important goal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Is solitude—spending time alone—necessary for people to achieve their most important goals? Plan and write an essay in which you develop your point of view on this issue. Support your position with reasoning and examples taken from your reading, studies, experience, or observ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2:44:00Z</dcterms:created>
  <dc:creator>Leah Vanderwarker</dc:creator>
  <dc:description/>
  <dc:language>en-US</dc:language>
  <cp:lastModifiedBy>Leah Vanderwarker</cp:lastModifiedBy>
  <dcterms:modified xsi:type="dcterms:W3CDTF">2010-12-01T14:42:26Z</dcterms:modified>
  <cp:revision>19</cp:revision>
  <dc:subject/>
  <dc:title>The SAT® Writing Section</dc:title>
</cp:coreProperties>
</file>