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D03-62DF-4C8B-9703-018A7DA4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1FB-2DC8-41A7-87F0-B1DE5B49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B0C-02FF-4111-8AA9-86CB2DC4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B53-E6F1-419B-B8A8-742376EF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3ED-35F9-4BD1-9E42-59CFA599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53F-0ABB-4DCA-8086-81A94EF0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40F-75B0-464E-A29B-C659E965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6F7-BDED-473D-8C4D-8BEC6011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C35-633C-468A-8380-86C266C6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9D9-AF0E-45F5-8A1E-13884FC9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170-5C32-4B65-9AFA-E85A43FD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612-DE1A-4C02-BE90-4B95EBD3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9A91-7293-4401-B783-070990AFF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: 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Nd9GcTTXiFXbmyp8UoP6wesVGXZZbf0ZQ2RCg1yFWKIvlS7koiuWnAN"/>
          <p:cNvPicPr/>
          <p:nvPr/>
        </p:nvPicPr>
        <p:blipFill>
          <a:blip r:embed="rId1"/>
          <a:stretch/>
        </p:blipFill>
        <p:spPr>
          <a:xfrm>
            <a:off x="2362320" y="1600200"/>
            <a:ext cx="4343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etry captures images and impressions of life and experience through the use of well-chosen words and phra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frostpo"/>
          <p:cNvPicPr/>
          <p:nvPr/>
        </p:nvPicPr>
        <p:blipFill>
          <a:blip r:embed="rId1"/>
          <a:stretch/>
        </p:blipFill>
        <p:spPr>
          <a:xfrm>
            <a:off x="1066680" y="2952720"/>
            <a:ext cx="71629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microtalk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 this does not mean that poetry is random writing without its own features and rule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ther poems are written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ise beau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sonnets1960"/>
          <p:cNvPicPr/>
          <p:nvPr/>
        </p:nvPicPr>
        <p:blipFill>
          <a:blip r:embed="rId1"/>
          <a:stretch/>
        </p:blipFill>
        <p:spPr>
          <a:xfrm>
            <a:off x="3581280" y="1066680"/>
            <a:ext cx="55627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express lov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ANd9GcSminaVfAI5cm2Ryv6eoJhWWpm-1YgT3H7RCc9rJ93xixTpu1Kp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Share a happy or tragic mo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tumblr_m9l4ucsVUI1ru85h8o1_400"/>
          <p:cNvPicPr/>
          <p:nvPr/>
        </p:nvPicPr>
        <p:blipFill>
          <a:blip r:embed="rId1"/>
          <a:stretch/>
        </p:blipFill>
        <p:spPr>
          <a:xfrm>
            <a:off x="990720" y="1809720"/>
            <a:ext cx="76197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grass-happiness-heart-photography-quote-ralph-waldo-emerson-Favim_com-52924"/>
          <p:cNvPicPr/>
          <p:nvPr/>
        </p:nvPicPr>
        <p:blipFill>
          <a:blip r:embed="rId1"/>
          <a:stretch/>
        </p:blipFill>
        <p:spPr>
          <a:xfrm>
            <a:off x="685800" y="237960"/>
            <a:ext cx="792468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tumblr_m3iynsNd9M1r5pu8bo1_500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protest inju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n soldiers and Nixon's coming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're finally on our own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ummer I hear the drumming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 dead in Ohio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tta get down to i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diers are gunning us dow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been done long ago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f you knew 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found her dead on the groun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can you run when you know?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la la la la la la l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la la la la la l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la la la la la la l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la la la la la la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tta get down to i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diers are gunning us dow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been done long ago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f you knew 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found her dead on the groun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can you run when you know?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n soldiers and Nixon's coming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're finally on our own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ummer I hear the drumming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 dead in Ohio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 dead in Ohio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 dead in Ohi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io,” by Crosby, Stills, Nash, and Yo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every thought about why poems look different from other kids of writ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 to tell a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drseussgreenegg"/>
          <p:cNvPicPr/>
          <p:nvPr/>
        </p:nvPicPr>
        <p:blipFill>
          <a:blip r:embed="rId1"/>
          <a:stretch/>
        </p:blipFill>
        <p:spPr>
          <a:xfrm>
            <a:off x="380880" y="1447920"/>
            <a:ext cx="3810240" cy="5114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The_Odyssey_by_Homer"/>
          <p:cNvPicPr/>
          <p:nvPr/>
        </p:nvPicPr>
        <p:blipFill>
          <a:blip r:embed="rId2"/>
          <a:stretch/>
        </p:blipFill>
        <p:spPr>
          <a:xfrm>
            <a:off x="4800600" y="1447920"/>
            <a:ext cx="3484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poems have some elements in comm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foldable1-rwpo3p"/>
          <p:cNvPicPr/>
          <p:nvPr/>
        </p:nvPicPr>
        <p:blipFill>
          <a:blip r:embed="rId1"/>
          <a:stretch/>
        </p:blipFill>
        <p:spPr>
          <a:xfrm>
            <a:off x="1581120" y="2214720"/>
            <a:ext cx="59817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matter what inspires a poet to write, at least on or tow of these elements or characteristics, are present in any po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literarydev_thumb"/>
          <p:cNvPicPr/>
          <p:nvPr/>
        </p:nvPicPr>
        <p:blipFill>
          <a:blip r:embed="rId1"/>
          <a:stretch/>
        </p:blipFill>
        <p:spPr>
          <a:xfrm>
            <a:off x="2438280" y="26668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ong the most common characteristics of poetry are those associated with the broad classifications of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first four groups of the u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Ton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the tone of the speaker can be a clue to the meaning of the po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two_tone_posters-rd3bb7890fa644a4dbd3f0de1c2876773_2w4y_400"/>
          <p:cNvPicPr/>
          <p:nvPr/>
        </p:nvPicPr>
        <p:blipFill>
          <a:blip r:embed="rId1"/>
          <a:stretch/>
        </p:blipFill>
        <p:spPr>
          <a:xfrm>
            <a:off x="4724280" y="14479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http://trollable.com/wp-content/uploads/2012/08/Dont-you-type-on-me-in-that-tone-of-voice.jpg"/>
          <p:cNvPicPr/>
          <p:nvPr/>
        </p:nvPicPr>
        <p:blipFill>
          <a:blip r:embed="rId2"/>
          <a:stretch/>
        </p:blipFill>
        <p:spPr>
          <a:xfrm>
            <a:off x="609480" y="3429000"/>
            <a:ext cx="38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jacketmagazine.com/40/r-goodland-rb-noon00.jpg"/>
          <p:cNvPicPr/>
          <p:nvPr/>
        </p:nvPicPr>
        <p:blipFill>
          <a:blip r:embed="rId1"/>
          <a:stretch/>
        </p:blipFill>
        <p:spPr>
          <a:xfrm>
            <a:off x="714240" y="85680"/>
            <a:ext cx="705816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www.cprw.com/wp-content/uploads/2011/09/WhitmanWalt-300x177.jpg"/>
          <p:cNvPicPr/>
          <p:nvPr/>
        </p:nvPicPr>
        <p:blipFill>
          <a:blip r:embed="rId1"/>
          <a:stretch/>
        </p:blipFill>
        <p:spPr>
          <a:xfrm>
            <a:off x="304920" y="743040"/>
            <a:ext cx="86868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Imag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ing aware of the special language of poetry will enable you to understand how  the poet’s imagery appeals to your senses of sight, smell, taste touch, and hea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http://01.edu-cdn.com/files/static/learningexpressllc/9781576856611/Imagery_01.gif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aso-3-with-haiku"/>
          <p:cNvPicPr/>
          <p:nvPr/>
        </p:nvPicPr>
        <p:blipFill>
          <a:blip r:embed="rId1"/>
          <a:stretch/>
        </p:blipFill>
        <p:spPr>
          <a:xfrm>
            <a:off x="2165400" y="0"/>
            <a:ext cx="551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mseffie.com/assignments/poetry/imagery.gif"/>
          <p:cNvPicPr/>
          <p:nvPr/>
        </p:nvPicPr>
        <p:blipFill>
          <a:blip r:embed="rId1"/>
          <a:stretch/>
        </p:blipFill>
        <p:spPr>
          <a:xfrm>
            <a:off x="504720" y="299880"/>
            <a:ext cx="841068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Figurativ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ets use metaphorical or symbolic meaning in order to compare and contrast thoughts and objects in unique ways in order to share their vision with yo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youthincontrol.files.wordpress.com/2009/03/quotes_langston-hughes.jpg"/>
          <p:cNvPicPr/>
          <p:nvPr/>
        </p:nvPicPr>
        <p:blipFill>
          <a:blip r:embed="rId1"/>
          <a:stretch/>
        </p:blipFill>
        <p:spPr>
          <a:xfrm>
            <a:off x="228600" y="588960"/>
            <a:ext cx="89154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ets craft sound and movement carefu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use repetition and melodic combinations of vowels and consonants to create desired effe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nds work with the rhythms that move the poem along, helping  you hear and feel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3.bp.blogspot.com/-PfoPYS8UA0A/TbRXS7QuHGI/AAAAAAAAAJk/qrwW9tugGxE/s1600/rhyme.jpg"/>
          <p:cNvPicPr/>
          <p:nvPr/>
        </p:nvPicPr>
        <p:blipFill>
          <a:blip r:embed="rId1"/>
          <a:stretch/>
        </p:blipFill>
        <p:spPr>
          <a:xfrm>
            <a:off x="1981080" y="192240"/>
            <a:ext cx="495324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The Narrative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rrative poem can tell a story in much the same way as prose but still can deep its uniqu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3.bp.blogspot.com/-PfoPYS8UA0A/TbRXS7QuHGI/AAAAAAAAAJk/qrwW9tugGxE/s1600/rhyme.jpg"/>
          <p:cNvPicPr/>
          <p:nvPr/>
        </p:nvPicPr>
        <p:blipFill>
          <a:blip r:embed="rId1"/>
          <a:stretch/>
        </p:blipFill>
        <p:spPr>
          <a:xfrm>
            <a:off x="1981080" y="192240"/>
            <a:ext cx="495324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you read a poem, look first for what is “going on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for the ways thoughts are 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punctuation and other c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za breaks or divisions can signal thoughts and add rhyth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za breaks or divisions can signal thoughts and add rhyth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Rectangle 3" descr=""/>
          <p:cNvPicPr/>
          <p:nvPr/>
        </p:nvPicPr>
        <p:blipFill>
          <a:blip r:embed="rId1"/>
          <a:stretch/>
        </p:blipFill>
        <p:spPr>
          <a:xfrm>
            <a:off x="1143000" y="1509840"/>
            <a:ext cx="6248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3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onnets1960"/>
          <p:cNvPicPr/>
          <p:nvPr/>
        </p:nvPicPr>
        <p:blipFill>
          <a:blip r:embed="rId1"/>
          <a:stretch/>
        </p:blipFill>
        <p:spPr>
          <a:xfrm>
            <a:off x="1523880" y="88920"/>
            <a:ext cx="708660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a poem out loud can be a help to understanding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Rectangle 3" descr=""/>
          <p:cNvPicPr/>
          <p:nvPr/>
        </p:nvPicPr>
        <p:blipFill>
          <a:blip r:embed="rId1"/>
          <a:stretch/>
        </p:blipFill>
        <p:spPr>
          <a:xfrm>
            <a:off x="990720" y="1574640"/>
            <a:ext cx="79246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ul Revere's R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nry Wadsworth Longf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my children and you shall he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midnight ride of Paul Rever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eighteenth of April, in Seventy-five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ly a man is now al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remembers that famous day and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, don’t  overlook a poem's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a clue to either the subject which can have endless varie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Finger_Print_Poems_by_NateJack"/>
          <p:cNvPicPr/>
          <p:nvPr/>
        </p:nvPicPr>
        <p:blipFill>
          <a:blip r:embed="rId1"/>
          <a:stretch/>
        </p:blipFill>
        <p:spPr>
          <a:xfrm>
            <a:off x="2757600" y="0"/>
            <a:ext cx="415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ems tend to mirror the way we think and speak, as opposed to the way we wr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 does not employ traditional sentences and paragraph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 doesn’t 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punc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ls, Biographies, Non-Fiction, Articles, Short Stories, E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mar for emph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ems, concrete poetry, haikus, sonnets, narrative poe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arksrichardson.files.wordpress.com/2010/04/first-page-open-boat.jpg"/>
          <p:cNvPicPr/>
          <p:nvPr/>
        </p:nvPicPr>
        <p:blipFill>
          <a:blip r:embed="rId1"/>
          <a:stretch/>
        </p:blipFill>
        <p:spPr>
          <a:xfrm>
            <a:off x="2362320" y="1704960"/>
            <a:ext cx="3933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network.blendedschools.net/bsntube/uploads/player_thumbs/eQZxSXduxljlUzlvVil1.jpg"/>
          <p:cNvPicPr/>
          <p:nvPr/>
        </p:nvPicPr>
        <p:blipFill>
          <a:blip r:embed="rId1"/>
          <a:stretch/>
        </p:blipFill>
        <p:spPr>
          <a:xfrm>
            <a:off x="380880" y="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4:14:50Z</dcterms:created>
  <dc:creator>Leah Vanderwarker</dc:creator>
  <dc:description/>
  <dc:language>en-US</dc:language>
  <cp:lastModifiedBy>Leah Vanderwarker</cp:lastModifiedBy>
  <dcterms:modified xsi:type="dcterms:W3CDTF">2013-01-03T18:21:24Z</dcterms:modified>
  <cp:revision>22</cp:revision>
  <dc:subject/>
  <dc:title>Unit 3: Poetry</dc:title>
</cp:coreProperties>
</file>