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55D-51FB-4D8B-9E84-6D57C820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221-9663-416E-ACED-6005F846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9A41-1B4C-42A3-91E2-82D22260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B4F-23EE-4CC6-AFD7-DFFFBC06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31A7-DE99-4905-9935-96336DE6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34A5-22E2-4F7F-9440-2843CB13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700-5455-46D1-827D-18DC04AF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3C1-CF9E-4D6D-929B-2AB0C650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9F29-08FF-487E-819B-121E72B6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A0F-09A4-41B1-8349-EEA9C4F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D78-5B45-4263-B301-66FC5B2D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4AF-277E-41C6-8FD5-A8A21B4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1D9-D5E8-4C9A-AC48-50D0AB6C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3: 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TXiFXbmyp8UoP6wesVGXZZbf0ZQ2RCg1yFWKIvlS7koiuWnAN"/>
          <p:cNvPicPr/>
          <p:nvPr/>
        </p:nvPicPr>
        <p:blipFill>
          <a:blip r:embed="rId1"/>
          <a:stretch/>
        </p:blipFill>
        <p:spPr>
          <a:xfrm>
            <a:off x="2362320" y="1600200"/>
            <a:ext cx="434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etry captures images and impressions of life and experience through the use of well-chosen words and phrase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frostpo"/>
          <p:cNvPicPr/>
          <p:nvPr/>
        </p:nvPicPr>
        <p:blipFill>
          <a:blip r:embed="rId1"/>
          <a:stretch/>
        </p:blipFill>
        <p:spPr>
          <a:xfrm>
            <a:off x="1066680" y="2952720"/>
            <a:ext cx="71629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microtalk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this does not mean that poetry is random writing without its own features and rules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ther poems are written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ise beau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sonnets1960"/>
          <p:cNvPicPr/>
          <p:nvPr/>
        </p:nvPicPr>
        <p:blipFill>
          <a:blip r:embed="rId1"/>
          <a:stretch/>
        </p:blipFill>
        <p:spPr>
          <a:xfrm>
            <a:off x="3581280" y="1066680"/>
            <a:ext cx="55627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xpress lov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SminaVfAI5cm2Ryv6eoJhWWpm-1YgT3H7RCc9rJ93xixTpu1Kp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hare a happy or tragic mo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tumblr_m9l4ucsVUI1ru85h8o1_400"/>
          <p:cNvPicPr/>
          <p:nvPr/>
        </p:nvPicPr>
        <p:blipFill>
          <a:blip r:embed="rId1"/>
          <a:stretch/>
        </p:blipFill>
        <p:spPr>
          <a:xfrm>
            <a:off x="990720" y="1809720"/>
            <a:ext cx="7619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grass-happiness-heart-photography-quote-ralph-waldo-emerson-Favim_com-52924"/>
          <p:cNvPicPr/>
          <p:nvPr/>
        </p:nvPicPr>
        <p:blipFill>
          <a:blip r:embed="rId1"/>
          <a:stretch/>
        </p:blipFill>
        <p:spPr>
          <a:xfrm>
            <a:off x="685800" y="237960"/>
            <a:ext cx="792468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tumblr_m3iynsNd9M1r5pu8bo1_500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protest in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 soldiers and Nixon's co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're finally on our ow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ummer I hear the drum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tta get down to 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diers are gunning us dow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been done long ago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f you knew 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ound her dead on the grou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can you run when you know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 l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 la la la la la la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tta get down to 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diers are gunning us dow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been done long ago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f you knew h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found her dead on the ground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can you run when you know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n soldiers and Nixon's co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're finally on our own.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summer I hear the drumming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r dead in Ohi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io,” by Crosby, Stills, Nash, and Yo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ve you every thought about why poems look different from other kids of writ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to tell a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rseussgreenegg"/>
          <p:cNvPicPr/>
          <p:nvPr/>
        </p:nvPicPr>
        <p:blipFill>
          <a:blip r:embed="rId1"/>
          <a:stretch/>
        </p:blipFill>
        <p:spPr>
          <a:xfrm>
            <a:off x="380880" y="1447920"/>
            <a:ext cx="3810240" cy="511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The_Odyssey_by_Homer"/>
          <p:cNvPicPr/>
          <p:nvPr/>
        </p:nvPicPr>
        <p:blipFill>
          <a:blip r:embed="rId2"/>
          <a:stretch/>
        </p:blipFill>
        <p:spPr>
          <a:xfrm>
            <a:off x="4800600" y="1447920"/>
            <a:ext cx="3484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poems have some elements in comm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foldable1-rwpo3p"/>
          <p:cNvPicPr/>
          <p:nvPr/>
        </p:nvPicPr>
        <p:blipFill>
          <a:blip r:embed="rId1"/>
          <a:stretch/>
        </p:blipFill>
        <p:spPr>
          <a:xfrm>
            <a:off x="1581120" y="2214720"/>
            <a:ext cx="598176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matter what inspires a poet to write, at least on or tow of these elements or characteristics, are present in any po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literarydev_thumb"/>
          <p:cNvPicPr/>
          <p:nvPr/>
        </p:nvPicPr>
        <p:blipFill>
          <a:blip r:embed="rId1"/>
          <a:stretch/>
        </p:blipFill>
        <p:spPr>
          <a:xfrm>
            <a:off x="24382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ong the most common characteristics of poetry are those associated with the broad classifications of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first four groups of the un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To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tone of the speaker can be a clue to the meaning of the po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two_tone_posters-rd3bb7890fa644a4dbd3f0de1c2876773_2w4y_400"/>
          <p:cNvPicPr/>
          <p:nvPr/>
        </p:nvPicPr>
        <p:blipFill>
          <a:blip r:embed="rId1"/>
          <a:stretch/>
        </p:blipFill>
        <p:spPr>
          <a:xfrm>
            <a:off x="4724280" y="14479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http://trollable.com/wp-content/uploads/2012/08/Dont-you-type-on-me-in-that-tone-of-voice.jpg"/>
          <p:cNvPicPr/>
          <p:nvPr/>
        </p:nvPicPr>
        <p:blipFill>
          <a:blip r:embed="rId2"/>
          <a:stretch/>
        </p:blipFill>
        <p:spPr>
          <a:xfrm>
            <a:off x="609480" y="3429000"/>
            <a:ext cx="38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jacketmagazine.com/40/r-goodland-rb-noon00.jpg"/>
          <p:cNvPicPr/>
          <p:nvPr/>
        </p:nvPicPr>
        <p:blipFill>
          <a:blip r:embed="rId1"/>
          <a:stretch/>
        </p:blipFill>
        <p:spPr>
          <a:xfrm>
            <a:off x="714240" y="85680"/>
            <a:ext cx="70581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www.cprw.com/wp-content/uploads/2011/09/WhitmanWalt-300x177.jpg"/>
          <p:cNvPicPr/>
          <p:nvPr/>
        </p:nvPicPr>
        <p:blipFill>
          <a:blip r:embed="rId1"/>
          <a:stretch/>
        </p:blipFill>
        <p:spPr>
          <a:xfrm>
            <a:off x="304920" y="743040"/>
            <a:ext cx="86868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ing aware of the special language of poetry will enable you to understand how  the poet’s imagery appeals to your senses of sight, smell, taste touch, and hea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http://01.edu-cdn.com/files/static/learningexpressllc/9781576856611/Imagery_01.gif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so-3-with-haiku"/>
          <p:cNvPicPr/>
          <p:nvPr/>
        </p:nvPicPr>
        <p:blipFill>
          <a:blip r:embed="rId1"/>
          <a:stretch/>
        </p:blipFill>
        <p:spPr>
          <a:xfrm>
            <a:off x="216540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http://mseffie.com/assignments/poetry/imagery.gif"/>
          <p:cNvPicPr/>
          <p:nvPr/>
        </p:nvPicPr>
        <p:blipFill>
          <a:blip r:embed="rId1"/>
          <a:stretch/>
        </p:blipFill>
        <p:spPr>
          <a:xfrm>
            <a:off x="504720" y="299880"/>
            <a:ext cx="841068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Figurativ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s use metaphorical or symbolic meaning in order to compare and contrast thoughts and objects in unique ways in order to share their vision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youthincontrol.files.wordpress.com/2009/03/quotes_langston-hughes.jpg"/>
          <p:cNvPicPr/>
          <p:nvPr/>
        </p:nvPicPr>
        <p:blipFill>
          <a:blip r:embed="rId1"/>
          <a:stretch/>
        </p:blipFill>
        <p:spPr>
          <a:xfrm>
            <a:off x="228600" y="588960"/>
            <a:ext cx="891540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ets craft sound and movement carefu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use repetition and melodic combinations of vowels and consonants to create desired effe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unds work with the rhythms that move the poem along, helping  you hear and fee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3.bp.blogspot.com/-PfoPYS8UA0A/TbRXS7QuHGI/AAAAAAAAAJk/qrwW9tugGxE/s1600/rhyme.jpg"/>
          <p:cNvPicPr/>
          <p:nvPr/>
        </p:nvPicPr>
        <p:blipFill>
          <a:blip r:embed="rId1"/>
          <a:stretch/>
        </p:blipFill>
        <p:spPr>
          <a:xfrm>
            <a:off x="1981080" y="192240"/>
            <a:ext cx="4953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The Narrative P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rrative poem can tell a story in much the same way as prose but still can deep its unique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3.bp.blogspot.com/-PfoPYS8UA0A/TbRXS7QuHGI/AAAAAAAAAJk/qrwW9tugGxE/s1600/rhyme.jpg"/>
          <p:cNvPicPr/>
          <p:nvPr/>
        </p:nvPicPr>
        <p:blipFill>
          <a:blip r:embed="rId1"/>
          <a:stretch/>
        </p:blipFill>
        <p:spPr>
          <a:xfrm>
            <a:off x="1981080" y="192240"/>
            <a:ext cx="495324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you read a poem, look first for what is “going on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 for the ways thoughts are 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unctuation and other c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za breaks or divisions can signal thoughts and add rhyth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za breaks or divisions can signal thoughts and add rhyth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1143000" y="1509840"/>
            <a:ext cx="6248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sonnets1960"/>
          <p:cNvPicPr/>
          <p:nvPr/>
        </p:nvPicPr>
        <p:blipFill>
          <a:blip r:embed="rId1"/>
          <a:stretch/>
        </p:blipFill>
        <p:spPr>
          <a:xfrm>
            <a:off x="1523880" y="88920"/>
            <a:ext cx="7086600" cy="66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a poem out loud can be a help to understanding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ctangle 3" descr=""/>
          <p:cNvPicPr/>
          <p:nvPr/>
        </p:nvPicPr>
        <p:blipFill>
          <a:blip r:embed="rId1"/>
          <a:stretch/>
        </p:blipFill>
        <p:spPr>
          <a:xfrm>
            <a:off x="990720" y="1574640"/>
            <a:ext cx="79246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ul Revere's R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nry Wadsworth Longf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my children and you shall hea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midnight ride of Paul Rever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eighteenth of April, in Seventy-fiv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ly a man is now al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remembers that famous day and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lly, don’t  overlook a poem's tit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a clue to either the subject which can have endless varie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Finger_Print_Poems_by_NateJack"/>
          <p:cNvPicPr/>
          <p:nvPr/>
        </p:nvPicPr>
        <p:blipFill>
          <a:blip r:embed="rId1"/>
          <a:stretch/>
        </p:blipFill>
        <p:spPr>
          <a:xfrm>
            <a:off x="2757600" y="0"/>
            <a:ext cx="415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ems tend to mirror the way we think and speak, as opposed to the way we wri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does not employ traditional sentences and paragraph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 doesn’t ne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punc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ls, Biographies, Non-Fiction, Articles, Short Stories, Em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 for e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ems, concrete poetry, haikus, sonnets, narrative poe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://marksrichardson.files.wordpress.com/2010/04/first-page-open-boat.jpg"/>
          <p:cNvPicPr/>
          <p:nvPr/>
        </p:nvPicPr>
        <p:blipFill>
          <a:blip r:embed="rId1"/>
          <a:stretch/>
        </p:blipFill>
        <p:spPr>
          <a:xfrm>
            <a:off x="2362320" y="1704960"/>
            <a:ext cx="393372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http://network.blendedschools.net/bsntube/uploads/player_thumbs/eQZxSXduxljlUzlvVil1.jpg"/>
          <p:cNvPicPr/>
          <p:nvPr/>
        </p:nvPicPr>
        <p:blipFill>
          <a:blip r:embed="rId1"/>
          <a:stretch/>
        </p:blipFill>
        <p:spPr>
          <a:xfrm>
            <a:off x="380880" y="0"/>
            <a:ext cx="861084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14:14:50Z</dcterms:created>
  <dc:creator>Leah Vanderwarker</dc:creator>
  <dc:description/>
  <dc:language>en-US</dc:language>
  <cp:lastModifiedBy>Leah Vanderwarker</cp:lastModifiedBy>
  <dcterms:modified xsi:type="dcterms:W3CDTF">2013-01-03T18:21:24Z</dcterms:modified>
  <cp:revision>22</cp:revision>
  <dc:subject/>
  <dc:title>Unit 3: Poetry</dc:title>
</cp:coreProperties>
</file>