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1DC-6F59-4777-8ABB-0029FC7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A4F-97E2-4F49-9DBC-76BF9DE0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7B6-4193-481D-A5C3-A90CB3D9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36F-B883-462E-9F23-DBDD6270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6DE-C908-49E3-BDB5-53BCCB1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D33-1108-42C8-9FF8-341FEF3C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EBE-98C5-424C-938D-77036D7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374-A913-41E3-8B92-45CFC3A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FD0-24A5-4D26-9369-307C832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DCD-76E7-4CA5-9276-AAFAE05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E47-D16C-4133-89A6-3B70CAC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F40-52B3-4CFA-86D1-A8BBFDA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D3B-4244-4BE4-BE48-E285E9A9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l Warm up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gue Tw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Bug’s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h the Washing, Russ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Blood, Bad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 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it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Fried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shrunk Shi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ish Shell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ber Baby Buggy Bum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Leather, Yellow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apsack S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que 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gess’s Fish Shop Sa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 Munch Much M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07:03Z</dcterms:created>
  <dc:creator>Leah Vanderwarker</dc:creator>
  <dc:description/>
  <dc:language>en-US</dc:language>
  <cp:lastModifiedBy>Leah Vanderwarker</cp:lastModifiedBy>
  <dcterms:modified xsi:type="dcterms:W3CDTF">2011-02-03T19:29:26Z</dcterms:modified>
  <cp:revision>2</cp:revision>
  <dc:subject/>
  <dc:title>Vocal Warm up:  Tongue Twisters</dc:title>
</cp:coreProperties>
</file>