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3ED-A78D-4143-8710-40D8041A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AA30-F986-4C89-BF35-E3C49F6F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565-0B1E-4526-856D-E8C06FD1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D4C-3071-467D-A950-039291B2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99DA-6DAE-4088-9E0A-A8F499F2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BC5-77E1-44D4-AAF6-A86509D3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6F0A-049E-4257-8677-A9774956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C9A-0EAA-483A-851E-62A07CF4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8E7-7B60-4226-B788-C448A2C3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24A-9F5A-4637-92AA-14B1D308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722-B233-4DF1-BFC2-A55C3B1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8FC-01FB-456D-8199-83FE4C40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56F6-2136-4770-82F5-6553EA26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l Warm up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ngue Tw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Bug’s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h the Washing, Russel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Blood, Bad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y B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uit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Fried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-shrunk Shi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ish Shell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ber Baby Buggy Bum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Leather, Yellow L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apsack S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Paci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que New Y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gess’s Fish Shop Sa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 Munch Much M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4:07:03Z</dcterms:created>
  <dc:creator>Leah Vanderwarker</dc:creator>
  <dc:description/>
  <dc:language>en-US</dc:language>
  <cp:lastModifiedBy>Leah Vanderwarker</cp:lastModifiedBy>
  <dcterms:modified xsi:type="dcterms:W3CDTF">2011-02-03T19:29:26Z</dcterms:modified>
  <cp:revision>2</cp:revision>
  <dc:subject/>
  <dc:title>Vocal Warm up:  Tongue Twisters</dc:title>
</cp:coreProperties>
</file>